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4.wmf" ContentType="image/x-wmf"/>
  <Override PartName="/ppt/media/image22.png" ContentType="image/png"/>
  <Override PartName="/ppt/media/image21.jpeg" ContentType="image/jpeg"/>
  <Override PartName="/ppt/media/image1.jpeg" ContentType="image/jpeg"/>
  <Override PartName="/ppt/media/image15.wmf" ContentType="image/x-wmf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33D6-6938-49F5-A75E-AC6F69D28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A90E-41B6-4B4C-A473-FEC1DD09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B5A9-44D5-4C16-BF23-6DAA53182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15B7-FE75-4503-9F2A-2C5BA1339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0020-ED59-4E9B-A5F3-8BF89AF81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51ED-DFDF-4C41-9FEF-2E29B82F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6EAF4-3930-450F-BADA-CCA392E2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C3DA3-5974-433A-921D-12808C0B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580E-E8D0-40B0-9912-259072A9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5F0FE-8E7B-430F-BDC3-8427DDC2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90AD-417F-42C5-80FB-02C129C0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C2C6-0197-4B4E-AA6B-59B629AD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6AFD-9B02-4599-91CC-1770035D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B6A9-D20B-4008-AEEE-2EA0FEDA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F815-8BE8-47FE-ACF4-21679AE6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C0CC-9CA8-408B-869A-716BCB503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316D3-E2CC-41A9-9155-F71303478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F792-29AD-4B7D-8973-CA4314C5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C903-861F-4133-B996-B064F49B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3910-18B9-403F-8916-7595BB3A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226D-318E-497D-91B1-B0481AFA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96DF-C20B-4D21-B6CF-D3D0EFC8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C7DA-40E3-4DC8-BD54-1A561CE7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3501-CB80-460A-9CE2-03F5BAC7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37F7-6B08-4775-875C-A1E1B0EDED0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42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43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46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47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48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51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52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55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58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61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64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7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70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73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76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79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82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85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88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91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94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6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97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00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2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03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5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06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8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09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1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12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6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17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2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23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5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26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1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32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4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35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0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41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3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44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6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47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9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150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8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9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160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0895-7C40-4488-8E93-3138EEF2BE9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a/a2/Jack-o%27-Lantern_2003-10-31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wmf"/><Relationship Id="rId11" Type="http://schemas.openxmlformats.org/officeDocument/2006/relationships/image" Target="../media/image14.wmf"/><Relationship Id="rId12" Type="http://schemas.openxmlformats.org/officeDocument/2006/relationships/image" Target="../media/image15.wmf"/><Relationship Id="rId13" Type="http://schemas.openxmlformats.org/officeDocument/2006/relationships/image" Target="../media/image16.wmf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de-LU" sz="4400" spc="-1" strike="noStrike">
                <a:solidFill>
                  <a:srgbClr val="ffffff"/>
                </a:solidFill>
                <a:latin typeface="Arial Black"/>
              </a:rPr>
              <a:t>Rache ist süß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3200" spc="-1" strike="noStrike">
                <a:solidFill>
                  <a:srgbClr val="ffe103"/>
                </a:solidFill>
                <a:latin typeface="Arial Black"/>
              </a:rPr>
              <a:t>Erfunden von Pauline A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3200" spc="-1" strike="noStrike">
                <a:solidFill>
                  <a:srgbClr val="ffe103"/>
                </a:solidFill>
                <a:latin typeface="Arial Black"/>
              </a:rPr>
              <a:t>November 2006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1332000" y="260280"/>
            <a:ext cx="7812000" cy="5705640"/>
            <a:chOff x="1332000" y="260280"/>
            <a:chExt cx="7812000" cy="5705640"/>
          </a:xfrm>
        </p:grpSpPr>
        <p:pic>
          <p:nvPicPr>
            <p:cNvPr id="218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332000" y="260280"/>
              <a:ext cx="5810040" cy="570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156360" y="836640"/>
              <a:ext cx="2987640" cy="1081080"/>
            </a:xfrm>
            <a:prstGeom prst="wedgeEllipseCallout">
              <a:avLst>
                <a:gd name="adj1" fmla="val -51064"/>
                <a:gd name="adj2" fmla="val 106828"/>
              </a:avLst>
            </a:prstGeom>
            <a:solidFill>
              <a:srgbClr val="ff00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LU" sz="5400" spc="-1" strike="noStrike">
                  <a:solidFill>
                    <a:srgbClr val="ffcc00"/>
                  </a:solidFill>
                  <a:latin typeface="Chiller"/>
                </a:rPr>
                <a:t>Bouh!</a:t>
              </a:r>
              <a:endParaRPr b="0" lang="en-US" sz="54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7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70" fill="hold"/>
                                        <p:tgtEl>
                                          <p:spTgt spid="2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3409920" cy="53341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0" y="1628640"/>
            <a:ext cx="2411280" cy="1185840"/>
          </a:xfrm>
          <a:prstGeom prst="wedgeEllipseCallout">
            <a:avLst>
              <a:gd name="adj1" fmla="val 21296"/>
              <a:gd name="adj2" fmla="val 676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4000" spc="-1" strike="noStrike">
                <a:solidFill>
                  <a:srgbClr val="000000"/>
                </a:solidFill>
                <a:latin typeface="Bernard MT Condensed"/>
              </a:rPr>
              <a:t>Pah!!!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1052640"/>
            <a:ext cx="3024360" cy="2192040"/>
          </a:xfrm>
          <a:prstGeom prst="wedgeEllipseCallout">
            <a:avLst>
              <a:gd name="adj1" fmla="val -49791"/>
              <a:gd name="adj2" fmla="val -79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3200" spc="-1" strike="noStrike">
                <a:solidFill>
                  <a:srgbClr val="000000"/>
                </a:solidFill>
                <a:latin typeface="Bodoni MT Black"/>
              </a:rPr>
              <a:t>Hey! Da liegt wa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6343560" y="2492280"/>
            <a:ext cx="2800440" cy="4174920"/>
            <a:chOff x="6343560" y="2492280"/>
            <a:chExt cx="2800440" cy="4174920"/>
          </a:xfrm>
        </p:grpSpPr>
        <p:pic>
          <p:nvPicPr>
            <p:cNvPr id="224" name="" descr=""/>
            <p:cNvPicPr/>
            <p:nvPr/>
          </p:nvPicPr>
          <p:blipFill>
            <a:blip r:embed="rId2"/>
            <a:stretch/>
          </p:blipFill>
          <p:spPr>
            <a:xfrm>
              <a:off x="6343560" y="2492280"/>
              <a:ext cx="2800440" cy="41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6877080" y="3357720"/>
              <a:ext cx="1655640" cy="33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LU" sz="2400" spc="-1" strike="noStrike">
                  <a:solidFill>
                    <a:srgbClr val="000000"/>
                  </a:solidFill>
                  <a:latin typeface="Freestyle Script"/>
                </a:rPr>
                <a:t>Schwester</a:t>
              </a:r>
              <a:endParaRPr b="0" lang="en-US" sz="2400" spc="-1" strike="noStrike">
                <a:solidFill>
                  <a:srgbClr val="ffcc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LU" sz="2400" spc="-1" strike="noStrike">
                  <a:solidFill>
                    <a:srgbClr val="000000"/>
                  </a:solidFill>
                  <a:latin typeface="Freestyle Script"/>
                </a:rPr>
                <a:t>Ich bin weg. Wag es nicht in mein Zimmer zu gehen!</a:t>
              </a:r>
              <a:endParaRPr b="0" lang="en-US" sz="24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4284720" y="189000"/>
            <a:ext cx="1079280" cy="6669000"/>
            <a:chOff x="4284720" y="189000"/>
            <a:chExt cx="1079280" cy="6669000"/>
          </a:xfrm>
        </p:grpSpPr>
        <p:sp>
          <p:nvSpPr>
            <p:cNvPr id="227" name=""/>
            <p:cNvSpPr/>
            <p:nvPr/>
          </p:nvSpPr>
          <p:spPr>
            <a:xfrm>
              <a:off x="4284720" y="189000"/>
              <a:ext cx="57456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4572000" y="1484280"/>
              <a:ext cx="28728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572000" y="2349360"/>
              <a:ext cx="792000" cy="24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5148000" y="4869000"/>
              <a:ext cx="215640" cy="198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862440" y="2503440"/>
            <a:ext cx="1417680" cy="18511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3449520" y="2416320"/>
            <a:ext cx="2243160" cy="20239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3751200" y="2057400"/>
            <a:ext cx="1639800" cy="27432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3271680" y="2317680"/>
            <a:ext cx="2598840" cy="22208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5"/>
          <a:stretch/>
        </p:blipFill>
        <p:spPr>
          <a:xfrm>
            <a:off x="3840120" y="2313000"/>
            <a:ext cx="1463760" cy="22305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6"/>
          <a:stretch/>
        </p:blipFill>
        <p:spPr>
          <a:xfrm>
            <a:off x="3848040" y="2649600"/>
            <a:ext cx="1447920" cy="15588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7"/>
          <a:stretch/>
        </p:blipFill>
        <p:spPr>
          <a:xfrm>
            <a:off x="3406680" y="2517840"/>
            <a:ext cx="2330640" cy="18208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8"/>
          <a:stretch/>
        </p:blipFill>
        <p:spPr>
          <a:xfrm>
            <a:off x="3263760" y="2097000"/>
            <a:ext cx="2614680" cy="26640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9"/>
          <a:stretch/>
        </p:blipFill>
        <p:spPr>
          <a:xfrm>
            <a:off x="3321000" y="2155680"/>
            <a:ext cx="2502000" cy="25448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0"/>
          <a:stretch/>
        </p:blipFill>
        <p:spPr>
          <a:xfrm>
            <a:off x="3483000" y="2324160"/>
            <a:ext cx="2176560" cy="2209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1"/>
          <a:stretch/>
        </p:blipFill>
        <p:spPr>
          <a:xfrm>
            <a:off x="3662280" y="2371680"/>
            <a:ext cx="1817640" cy="21128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2"/>
          <a:stretch/>
        </p:blipFill>
        <p:spPr>
          <a:xfrm>
            <a:off x="3073320" y="1927080"/>
            <a:ext cx="2995560" cy="30020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3"/>
          <a:stretch/>
        </p:blipFill>
        <p:spPr>
          <a:xfrm>
            <a:off x="2124000" y="0"/>
            <a:ext cx="6658200" cy="63086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0" y="115920"/>
            <a:ext cx="3419640" cy="2565360"/>
          </a:xfrm>
          <a:prstGeom prst="wedgeEllipseCallout">
            <a:avLst>
              <a:gd name="adj1" fmla="val -48560"/>
              <a:gd name="adj2" fmla="val -56189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1800" spc="-1" strike="noStrike">
                <a:solidFill>
                  <a:srgbClr val="000000"/>
                </a:solidFill>
                <a:latin typeface="Arial Black"/>
              </a:rPr>
              <a:t>Da ist ihre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1800" spc="-1" strike="noStrike">
                <a:solidFill>
                  <a:srgbClr val="000000"/>
                </a:solidFill>
                <a:latin typeface="Arial Black"/>
              </a:rPr>
              <a:t>Süßigkeitenkiste!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1800" spc="-1" strike="noStrike">
                <a:solidFill>
                  <a:srgbClr val="000000"/>
                </a:solidFill>
                <a:latin typeface="Arial Black"/>
              </a:rPr>
              <a:t>Sie ist zu Hause,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1800" spc="-1" strike="noStrike">
                <a:solidFill>
                  <a:srgbClr val="000000"/>
                </a:solidFill>
                <a:latin typeface="Arial Black"/>
              </a:rPr>
              <a:t>denn sie hat heißen Kaffee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1800" spc="-1" strike="noStrike">
                <a:solidFill>
                  <a:srgbClr val="000000"/>
                </a:solidFill>
                <a:latin typeface="Arial Black"/>
              </a:rPr>
              <a:t>gemacht !!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1800" spc="-1" strike="noStrike">
                <a:solidFill>
                  <a:srgbClr val="000000"/>
                </a:solidFill>
                <a:latin typeface="Arial Black"/>
              </a:rPr>
              <a:t>Ich muss mich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1800" spc="-1" strike="noStrike">
                <a:solidFill>
                  <a:srgbClr val="000000"/>
                </a:solidFill>
                <a:latin typeface="Arial Black"/>
              </a:rPr>
              <a:t>beeilen!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2124000" y="189000"/>
            <a:ext cx="2376720" cy="1546200"/>
          </a:xfrm>
          <a:prstGeom prst="cloudCallout">
            <a:avLst>
              <a:gd name="adj1" fmla="val 15532"/>
              <a:gd name="adj2" fmla="val 681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2000" spc="-1" strike="noStrike">
                <a:solidFill>
                  <a:srgbClr val="000000"/>
                </a:solidFill>
                <a:latin typeface="Bodoni MT Black"/>
              </a:rPr>
              <a:t>Mmmmhh!!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2000" spc="-1" strike="noStrike">
                <a:solidFill>
                  <a:srgbClr val="000000"/>
                </a:solidFill>
                <a:latin typeface="Bodoni MT Black"/>
              </a:rPr>
              <a:t>Lecker!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3024360" cy="48247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979640" y="476280"/>
            <a:ext cx="1800360" cy="2120760"/>
          </a:xfrm>
          <a:prstGeom prst="wedgeEllipseCallout">
            <a:avLst>
              <a:gd name="adj1" fmla="val -35888"/>
              <a:gd name="adj2" fmla="val 6399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27280" y="620640"/>
            <a:ext cx="865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1800" spc="-1" strike="noStrike">
                <a:solidFill>
                  <a:srgbClr val="ffcc00"/>
                </a:solidFill>
                <a:latin typeface="Arial Black"/>
              </a:rPr>
              <a:t>Ich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1800" spc="-1" strike="noStrike">
                <a:solidFill>
                  <a:srgbClr val="ffcc00"/>
                </a:solidFill>
                <a:latin typeface="Arial Black"/>
              </a:rPr>
              <a:t>habe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1800" spc="-1" strike="noStrike">
                <a:solidFill>
                  <a:srgbClr val="ffcc00"/>
                </a:solidFill>
                <a:latin typeface="Arial Black"/>
              </a:rPr>
              <a:t>dich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268360" y="177336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1800" spc="-1" strike="noStrike">
                <a:solidFill>
                  <a:srgbClr val="ffcc00"/>
                </a:solidFill>
                <a:latin typeface="Arial Black"/>
              </a:rPr>
              <a:t>gewarnt!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396 0.15191 C -0.22136 0.15122 -0.21858 0.15099 -0.21598 0.14983 C -0.21181 0.14775 -0.19584 0.12833 -0.19393 0.1244 C -0.18993 0.11677 -0.18438 0.11029 -0.17778 0.10752 C -0.16667 0.09758 -0.14757 0.07238 -0.13976 0.05688 C -0.13629 0.04278 -0.12674 0.02798 -0.11598 0.02313 C -0.11268 0.0185 -0.10799 0.01503 -0.1033 0.01249 C -0.10018 0.01064 -0.09375 0.00833 -0.09375 0.00833 C -0.07188 0.01249 -0.05157 0.00694 -0.03021 0.00394 C -0.02014 0.00255 1.94444E-006 -0.00023 1.94444E-006 -0.00023 E">
                                      <p:cBhvr>
                                        <p:cTn id="63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2038680" cy="53276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2916360" y="549360"/>
            <a:ext cx="2519280" cy="1944720"/>
          </a:xfrm>
          <a:prstGeom prst="cloudCallout">
            <a:avLst>
              <a:gd name="adj1" fmla="val -65439"/>
              <a:gd name="adj2" fmla="val 65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1800" spc="-1" strike="noStrike">
                <a:solidFill>
                  <a:srgbClr val="000000"/>
                </a:solidFill>
                <a:latin typeface="Arial Black"/>
              </a:rPr>
              <a:t>Diese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1800" spc="-1" strike="noStrike">
                <a:solidFill>
                  <a:srgbClr val="000000"/>
                </a:solidFill>
                <a:latin typeface="Arial Black"/>
              </a:rPr>
              <a:t>Maske ist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1800" spc="-1" strike="noStrike">
                <a:solidFill>
                  <a:srgbClr val="000000"/>
                </a:solidFill>
                <a:latin typeface="Arial Black"/>
              </a:rPr>
              <a:t>perfekt!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5724360" y="2708280"/>
            <a:ext cx="2721240" cy="3478320"/>
          </a:xfrm>
          <a:prstGeom prst="rect">
            <a:avLst/>
          </a:prstGeom>
          <a:ln w="0">
            <a:noFill/>
          </a:ln>
        </p:spPr>
      </p:pic>
      <p:grpSp>
        <p:nvGrpSpPr>
          <p:cNvPr id="255" name=""/>
          <p:cNvGrpSpPr/>
          <p:nvPr/>
        </p:nvGrpSpPr>
        <p:grpSpPr>
          <a:xfrm>
            <a:off x="6084720" y="404640"/>
            <a:ext cx="3059280" cy="2303640"/>
            <a:chOff x="6084720" y="404640"/>
            <a:chExt cx="3059280" cy="2303640"/>
          </a:xfrm>
        </p:grpSpPr>
        <p:sp>
          <p:nvSpPr>
            <p:cNvPr id="256" name=""/>
            <p:cNvSpPr/>
            <p:nvPr/>
          </p:nvSpPr>
          <p:spPr>
            <a:xfrm>
              <a:off x="6084720" y="404640"/>
              <a:ext cx="3059280" cy="2303640"/>
            </a:xfrm>
            <a:prstGeom prst="cloudCallout">
              <a:avLst>
                <a:gd name="adj1" fmla="val -6254"/>
                <a:gd name="adj2" fmla="val 6440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pic>
          <p:nvPicPr>
            <p:cNvPr id="257" name="" descr="Süßigkeiten"/>
            <p:cNvPicPr/>
            <p:nvPr/>
          </p:nvPicPr>
          <p:blipFill>
            <a:blip r:embed="rId3"/>
            <a:stretch/>
          </p:blipFill>
          <p:spPr>
            <a:xfrm>
              <a:off x="6659640" y="836280"/>
              <a:ext cx="1800000" cy="134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" name=""/>
          <p:cNvSpPr/>
          <p:nvPr/>
        </p:nvSpPr>
        <p:spPr>
          <a:xfrm rot="17524200">
            <a:off x="4424400" y="-405000"/>
            <a:ext cx="1989000" cy="282708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LU" sz="3200" spc="-1" strike="noStrike">
                <a:solidFill>
                  <a:srgbClr val="000000"/>
                </a:solidFill>
                <a:latin typeface="Chiller"/>
              </a:rPr>
              <a:t>Boooouuuuhh!!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5796000" y="2708280"/>
            <a:ext cx="26668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889 0.10983 C -0.26771 0.10798 -0.24861 0.1059 -0.22865 0.09711 C -0.22396 0.0911 -0.21892 0.08624 -0.21424 0.08023 C -0.21076 0.06613 -0.21111 0.05249 -0.20469 0.04 C -0.20243 0.02775 -0.20313 0.0148 -0.19531 0.00624 C -0.19132 0.00185 -0.1809 -0.00231 -0.1809 -0.00231 C -0.17778 -0.00162 -0.17448 -0.00139 -0.17136 2.54335E-006 C -0.16563 0.00254 -0.16719 0.00509 -0.16354 0.0104 C -0.15451 0.02405 -0.15695 0.02127 -0.14757 0.02728 C -0.1434 0.03607 -0.13629 0.03954 -0.12865 0.04208 C -0.04254 0.03884 -0.09011 0.05364 -0.05868 0.0252 C -0.05347 0.01457 -0.05833 0.0222 -0.04913 0.0148 C -0.04392 0.01064 -0.03681 0.00046 -0.03021 2.54335E-006 C -0.02014 -0.00046 -0.01007 2.54335E-006 8.33333E-007 2.54335E-006 E">
                                      <p:cBhvr>
                                        <p:cTn id="69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8.09249E-007 C 0.02586 -0.00069 0.0519 -0.00069 0.07777 -0.00208 C 0.08333 -0.00231 0.09357 -0.00855 0.09357 -0.00855 C 0.0993 -0.0141 0.10434 -0.01826 0.11111 -0.02127 C 0.11736 -0.02682 0.11579 -0.02959 0.12065 -0.03607 C 0.12013 -0.06081 0.11979 -0.08532 0.11892 -0.11006 C 0.11875 -0.11514 0.11822 -0.12 0.11736 -0.12485 C 0.11666 -0.12925 0.11423 -0.13757 0.11423 -0.13757 C 0.11475 -0.13965 0.11458 -0.14243 0.11579 -0.14381 C 0.11753 -0.14566 0.12013 -0.14474 0.12222 -0.14589 C 0.12395 -0.14682 0.12517 -0.1489 0.1269 -0.15006 C 0.12847 -0.15098 0.1302 -0.15167 0.13177 -0.15237 C 0.19045 -0.14982 0.1677 -0.15006 0.2 -0.15006 E">
                                      <p:cBhvr>
                                        <p:cTn id="88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0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15:04:19Z</dcterms:created>
  <dc:creator>Adm. Niederanven</dc:creator>
  <dc:description/>
  <dc:language>en-US</dc:language>
  <cp:lastModifiedBy>Adm. Niederanven</cp:lastModifiedBy>
  <dcterms:modified xsi:type="dcterms:W3CDTF">2006-12-21T17:08:42Z</dcterms:modified>
  <cp:revision>10</cp:revision>
  <dc:subject/>
  <dc:title> Keine Ahnung!</dc:title>
</cp:coreProperties>
</file>