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applause.wav" ContentType="audio/x-wav"/>
  <Override PartName="/ppt/media/image5.jpeg" ContentType="image/jpeg"/>
  <Override PartName="/ppt/media/image4.jpeg" ContentType="image/jpeg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explode.wav" ContentType="audio/x-wav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E83-6671-45E2-83F2-1217786F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F43-7D57-4052-8481-2FB6566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778-F55C-431C-BEF6-9C4CF4F6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7EF-2A39-4AD3-9EF1-E3C6078B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D60-873F-4F08-8E04-7842623A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A7A-10E6-4BC9-BAB0-200E62E1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D20-DD01-40E2-BC26-17D2A3A9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DD2-A087-4F01-8521-D11B80DE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36A-7215-442C-B0DA-8BF3035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010-2965-426F-8BB8-3D78A67D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7CD-9901-4CCF-9A24-0F92FAF9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863-A049-4D32-B9A1-C405A5D8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2A82-7E56-418A-9A3A-CECD8F216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audio" Target="../media/explode.wav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34920" y="2133720"/>
            <a:ext cx="5832360" cy="100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000000"/>
                </a:solidFill>
                <a:latin typeface="comic"/>
              </a:rPr>
              <a:t>Y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Blackadder ITC"/>
              </a:rPr>
              <a:t>Von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508720" y="333360"/>
            <a:ext cx="1871640" cy="172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16720" y="333360"/>
            <a:ext cx="1727280" cy="1800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80000" y="0"/>
            <a:ext cx="1728720" cy="2087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835280" y="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415280" y="227664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8001000" y="4724280"/>
            <a:ext cx="1143000" cy="1590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846760" y="2349360"/>
            <a:ext cx="1390680" cy="201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627280" y="2349360"/>
            <a:ext cx="1366920" cy="1787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476360" y="2421000"/>
            <a:ext cx="1143000" cy="1590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516720" y="465300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5003640" y="4508640"/>
            <a:ext cx="1440000" cy="1873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3492360" y="4437000"/>
            <a:ext cx="1440000" cy="201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979640" y="4365720"/>
            <a:ext cx="1368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250920" y="4292640"/>
            <a:ext cx="1631880" cy="2193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5"/>
          <a:stretch/>
        </p:blipFill>
        <p:spPr>
          <a:xfrm>
            <a:off x="250920" y="0"/>
            <a:ext cx="1224000" cy="160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6"/>
          <a:stretch/>
        </p:blipFill>
        <p:spPr>
          <a:xfrm>
            <a:off x="250920" y="2276640"/>
            <a:ext cx="11430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134120" cy="535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7101000"/>
            <a:ext cx="73080" cy="71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64000" y="7029360"/>
            <a:ext cx="144360" cy="1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76280"/>
            <a:ext cx="2448000" cy="1224000"/>
          </a:xfrm>
          <a:prstGeom prst="wedgeRoundRectCallout">
            <a:avLst>
              <a:gd name="adj1" fmla="val 84759"/>
              <a:gd name="adj2" fmla="val 10200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ch komme sc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597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03640" y="3933720"/>
            <a:ext cx="3384720" cy="1987560"/>
          </a:xfrm>
          <a:prstGeom prst="wedgeRoundRectCallout">
            <a:avLst>
              <a:gd name="adj1" fmla="val -57037"/>
              <a:gd name="adj2" fmla="val -101518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Ab zu General Grievou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5797440" y="-132408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789360" cy="3816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2492280"/>
            <a:ext cx="2089080" cy="1513080"/>
          </a:xfrm>
          <a:prstGeom prst="wedgeRoundRectCallout">
            <a:avLst>
              <a:gd name="adj1" fmla="val 77888"/>
              <a:gd name="adj2" fmla="val 344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Ach Yod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Wie lange haben wir uns nicht mehr geseh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7225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25960" y="1600200"/>
            <a:ext cx="269208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64000" y="2205000"/>
            <a:ext cx="2305080" cy="792360"/>
          </a:xfrm>
          <a:prstGeom prst="wedgeRoundRectCallout">
            <a:avLst>
              <a:gd name="adj1" fmla="val -50208"/>
              <a:gd name="adj2" fmla="val 9128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ch fordere dich her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841400" y="1916280"/>
            <a:ext cx="5461200" cy="3520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12000" y="1844640"/>
            <a:ext cx="1800000" cy="1224000"/>
          </a:xfrm>
          <a:prstGeom prst="wedgeRoundRectCallout">
            <a:avLst>
              <a:gd name="adj1" fmla="val -48587"/>
              <a:gd name="adj2" fmla="val 6997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Du bist to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85680"/>
            <a:ext cx="8424720" cy="6512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292720" y="4508640"/>
            <a:ext cx="1800360" cy="504720"/>
          </a:xfrm>
          <a:prstGeom prst="wedgeRoundRectCallout">
            <a:avLst>
              <a:gd name="adj1" fmla="val -37476"/>
              <a:gd name="adj2" fmla="val -46131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Im Gegentei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63280" y="274680"/>
            <a:ext cx="410364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600" spc="-1" strike="noStrike">
                <a:solidFill>
                  <a:srgbClr val="000000"/>
                </a:solidFill>
                <a:latin typeface="Arial"/>
              </a:rPr>
              <a:t>Yoda hat gewon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836640"/>
            <a:ext cx="4038480" cy="568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48320" y="907560"/>
            <a:ext cx="4038480" cy="2878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648320" y="3938400"/>
            <a:ext cx="4038480" cy="2585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771640" y="765000"/>
            <a:ext cx="4896000" cy="5616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332000" y="2133720"/>
            <a:ext cx="1727280" cy="503280"/>
          </a:xfrm>
          <a:prstGeom prst="wedgeRoundRectCallout">
            <a:avLst>
              <a:gd name="adj1" fmla="val 65439"/>
              <a:gd name="adj2" fmla="val 27586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"/>
              </a:rPr>
              <a:t>Gesieg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71640" y="3213000"/>
            <a:ext cx="33958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EN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02:59Z</dcterms:created>
  <dc:creator>Adm. Niederanven</dc:creator>
  <dc:description/>
  <dc:language>en-US</dc:language>
  <cp:lastModifiedBy>Adm. Niederanven</cp:lastModifiedBy>
  <dcterms:modified xsi:type="dcterms:W3CDTF">2006-12-12T15:31:04Z</dcterms:modified>
  <cp:revision>16</cp:revision>
  <dc:subject/>
  <dc:title>Yoda</dc:title>
</cp:coreProperties>
</file>