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laser.wav" ContentType="audio/x-wav"/>
  <Override PartName="/ppt/media/image4.png" ContentType="image/png"/>
  <Override PartName="/ppt/media/image9.png" ContentType="image/png"/>
  <Override PartName="/ppt/media/Attacke.wav" ContentType="audio/x-wav"/>
  <Override PartName="/ppt/media/image8.png" ContentType="image/png"/>
  <Override PartName="/ppt/media/image13.png" ContentType="image/png"/>
  <Override PartName="/ppt/media/image12.jpeg" ContentType="image/jpeg"/>
  <Override PartName="/ppt/media/image11.png" ContentType="image/png"/>
  <Override PartName="/ppt/media/image6.png" ContentType="image/png"/>
  <Override PartName="/ppt/media/explode.wav" ContentType="audio/x-wav"/>
  <Override PartName="/ppt/media/arrow.wav" ContentType="audio/x-wav"/>
  <Override PartName="/ppt/media/applause.wav" ContentType="audio/x-wav"/>
  <Override PartName="/ppt/media/image10.png" ContentType="image/png"/>
  <Override PartName="/ppt/media/image5.png" ContentType="image/png"/>
  <Override PartName="/ppt/media/image2.png" ContentType="image/png"/>
  <Override PartName="/ppt/media/image3.png" ContentType="image/pn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8FC3A-8868-4F7A-8314-5923F4573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B329D-FF8B-4251-911C-AC402AA14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17FB9-87A2-4AB5-871C-DF2356DAB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DC0C4-7C38-4E8D-9373-2F40B2B78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7A354-C69F-4258-91AA-E923902A5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B8564-0DE2-4EF5-8562-D509BF3C6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35A86-AF07-4D63-B21E-247FF1442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BF068-30EF-410B-8666-96D7A7C83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BE644-E4FC-4DB7-BA8D-E6D65CC29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B4478-53B8-4860-830E-8B87C17E9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6558E-2028-42A1-A9EE-BA06878C8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3B2DA-6EB1-4D20-BF69-685D9FB56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E7993-D8C0-4FE0-A1DB-6A6F28A851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audio" Target="file:///tmp/home/.config/libreoffice/4/user/gallery/explode.wav" TargetMode="External"/><Relationship Id="rId6" Type="http://schemas.microsoft.com/office/2007/relationships/media" Target="file:///tmp/home/.config/libreoffice/4/user/gallery/explode.wav" TargetMode="External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5.png"/><Relationship Id="rId1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3.png"/><Relationship Id="rId10" Type="http://schemas.openxmlformats.org/officeDocument/2006/relationships/audio" Target="../media/arrow.wav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image" Target="../media/image9.png"/><Relationship Id="rId15" Type="http://schemas.openxmlformats.org/officeDocument/2006/relationships/image" Target="../media/image9.png"/><Relationship Id="rId16" Type="http://schemas.openxmlformats.org/officeDocument/2006/relationships/image" Target="../media/image9.png"/><Relationship Id="rId17" Type="http://schemas.openxmlformats.org/officeDocument/2006/relationships/image" Target="../media/image9.png"/><Relationship Id="rId18" Type="http://schemas.openxmlformats.org/officeDocument/2006/relationships/image" Target="../media/image9.png"/><Relationship Id="rId19" Type="http://schemas.openxmlformats.org/officeDocument/2006/relationships/image" Target="../media/image9.png"/><Relationship Id="rId20" Type="http://schemas.openxmlformats.org/officeDocument/2006/relationships/image" Target="../media/image5.png"/><Relationship Id="rId21" Type="http://schemas.openxmlformats.org/officeDocument/2006/relationships/audio" Target="../media/laser.wav"/><Relationship Id="rId22" Type="http://schemas.openxmlformats.org/officeDocument/2006/relationships/audio" Target="../media/laser.wav"/><Relationship Id="rId23" Type="http://schemas.openxmlformats.org/officeDocument/2006/relationships/audio" Target="../media/laser.wav"/><Relationship Id="rId24" Type="http://schemas.openxmlformats.org/officeDocument/2006/relationships/audio" Target="../media/laser.wav"/><Relationship Id="rId25" Type="http://schemas.openxmlformats.org/officeDocument/2006/relationships/audio" Target="../media/explode.wav"/><Relationship Id="rId26" Type="http://schemas.openxmlformats.org/officeDocument/2006/relationships/audio" Target="../media/Attacke.wav"/><Relationship Id="rId2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image" Target="../media/image9.png"/><Relationship Id="rId15" Type="http://schemas.openxmlformats.org/officeDocument/2006/relationships/image" Target="../media/image9.png"/><Relationship Id="rId16" Type="http://schemas.openxmlformats.org/officeDocument/2006/relationships/image" Target="../media/image9.png"/><Relationship Id="rId17" Type="http://schemas.openxmlformats.org/officeDocument/2006/relationships/image" Target="../media/image9.png"/><Relationship Id="rId18" Type="http://schemas.openxmlformats.org/officeDocument/2006/relationships/image" Target="../media/image11.png"/><Relationship Id="rId19" Type="http://schemas.openxmlformats.org/officeDocument/2006/relationships/image" Target="../media/image11.png"/><Relationship Id="rId20" Type="http://schemas.openxmlformats.org/officeDocument/2006/relationships/image" Target="../media/image11.png"/><Relationship Id="rId2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image" Target="../media/image13.png"/><Relationship Id="rId12" Type="http://schemas.openxmlformats.org/officeDocument/2006/relationships/image" Target="../media/image5.png"/><Relationship Id="rId1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124000" y="2852640"/>
            <a:ext cx="489744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Von Alastai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116000" y="1700280"/>
            <a:ext cx="6912000" cy="27655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 Black"/>
              </a:rPr>
              <a:t>Kreuzzug</a:t>
            </a:r>
            <a:endParaRPr b="0" lang="en-US" sz="66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pic>
        <p:nvPicPr>
          <p:cNvPr id="43" name="" descr="">
            <a:hlinkClick r:id="" action="ppaction://media"/>
          </p:cNvPr>
          <p:cNvPicPr/>
          <p:nvPr>
            <a:audioFile r:link="rId5"/>
            <p:extLst>
              <p:ext uri="{DAA4B4D4-6D71-4841-9C94-3DE7FCFB9230}">
                <p14:media r:link="rId6"/>
              </p:ext>
            </p:extLst>
          </p:nvPr>
        </p:nvPicPr>
        <p:blipFill>
          <a:blip r:embed="rId7"/>
          <a:stretch>
            <a:fillRect/>
          </a:stretch>
        </p:blipFill>
        <p:spPr>
          <a:xfrm>
            <a:off x="914400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155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" dur="1155" fill="hold"/>
                                        <p:tgtEl>
                                          <p:spTgt spid="4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0" dur="1155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1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2" dur="1155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3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0"/>
                            </p:stCondLst>
                            <p:childTnLst>
                              <p:par>
                                <p:cTn id="35" nodeType="afterEffect" fill="hold" presetClass="exit" presetID="51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7" dur="770" fill="hold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from x="200000" y="450000"/>
                                      <p:to x="10000" y="10000"/>
                                    </p:animScale>
                                    <p:animScale>
                                      <p:cBhvr>
                                        <p:cTn id="38" dur="1230" fill="hold"/>
                                        <p:tgtEl>
                                          <p:spTgt spid="41"/>
                                        </p:tgtEl>
                                      </p:cBhvr>
                                      <p:from x="100000" y="100000"/>
                                      <p:to x="200000" y="450000"/>
                                    </p:animScale>
                                    <p:anim calcmode="lin" valueType="num" from="(#ppt_x)" to="(0.5)">
                                      <p:cBhvr additive="repl">
                                        <p:cTn id="39" dur="1230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0.5)" to="(0.5)">
                                      <p:cBhvr additive="repl">
                                        <p:cTn id="40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#ppt_y+0.4)">
                                      <p:cBhvr additive="repl">
                                        <p:cTn id="41" dur="1230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 calcmode="lin" valueType="num" from="(#ppt_y)" to="(#ppt_y)">
                                      <p:cBhvr additive="repl">
                                        <p:cTn id="42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7000"/>
                            </p:stCondLst>
                            <p:childTnLst>
                              <p:par>
                                <p:cTn id="45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6" dur="1000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8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3"/>
                </p:tgtEl>
              </p:cMediaNode>
            </p:audio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419640" y="3114720"/>
            <a:ext cx="4762440" cy="37432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0"/>
            <a:ext cx="3816360" cy="2232000"/>
          </a:xfrm>
          <a:prstGeom prst="wedgeRoundRectCallout">
            <a:avLst>
              <a:gd name="adj1" fmla="val 108902"/>
              <a:gd name="adj2" fmla="val 128518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50920" y="836640"/>
            <a:ext cx="33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LU" sz="2400" spc="-1" strike="noStrike">
                <a:solidFill>
                  <a:srgbClr val="000000"/>
                </a:solidFill>
                <a:latin typeface="Arial"/>
              </a:rPr>
              <a:t>Lang lebe der Köni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3995280" y="3789360"/>
            <a:ext cx="576360" cy="1224000"/>
          </a:xfrm>
          <a:prstGeom prst="line">
            <a:avLst/>
          </a:prstGeom>
          <a:ln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564000" y="4076640"/>
            <a:ext cx="1295280" cy="647640"/>
          </a:xfrm>
          <a:prstGeom prst="line">
            <a:avLst/>
          </a:prstGeom>
          <a:ln w="88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8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8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8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8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000"/>
                            </p:stCondLst>
                            <p:childTnLst>
                              <p:par>
                                <p:cTn id="80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10000"/>
                            </p:stCondLst>
                            <p:childTnLst>
                              <p:par>
                                <p:cTn id="88" nodeType="afterEffect" fill="hold" presetClass="exit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4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9000"/>
                            </p:stCondLst>
                            <p:childTnLst>
                              <p:par>
                                <p:cTn id="93" nodeType="after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4" dur="50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4000"/>
                            </p:stCondLst>
                            <p:childTnLst>
                              <p:par>
                                <p:cTn id="98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99" dur="2000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0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101" dur="2000" fill="hold"/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2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103" dur="20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26000"/>
                            </p:stCondLst>
                            <p:childTnLst>
                              <p:par>
                                <p:cTn id="105" nodeType="afterEffect" fill="hold" presetClass="exit" presetID="51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7" dur="770" fill="hold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from x="200000" y="450000"/>
                                      <p:to x="10000" y="10000"/>
                                    </p:animScale>
                                    <p:animScale>
                                      <p:cBhvr>
                                        <p:cTn id="108" dur="1230" fill="hold"/>
                                        <p:tgtEl>
                                          <p:spTgt spid="44"/>
                                        </p:tgtEl>
                                      </p:cBhvr>
                                      <p:from x="100000" y="100000"/>
                                      <p:to x="200000" y="450000"/>
                                    </p:animScale>
                                    <p:anim calcmode="lin" valueType="num" from="(#ppt_x)" to="(0.5)">
                                      <p:cBhvr additive="repl">
                                        <p:cTn id="109" dur="123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0.5)" to="(0.5)">
                                      <p:cBhvr additive="repl">
                                        <p:cTn id="110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#ppt_y+0.4)">
                                      <p:cBhvr additive="repl">
                                        <p:cTn id="111" dur="123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 calcmode="lin" valueType="num" from="(#ppt_y)" to="(#ppt_y)">
                                      <p:cBhvr additive="repl">
                                        <p:cTn id="112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xit" presetID="51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5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6" dur="770" fill="hold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from x="200000" y="450000"/>
                                      <p:to x="10000" y="10000"/>
                                    </p:animScale>
                                    <p:animScale>
                                      <p:cBhvr>
                                        <p:cTn id="117" dur="1230" fill="hold"/>
                                        <p:tgtEl>
                                          <p:spTgt spid="47"/>
                                        </p:tgtEl>
                                      </p:cBhvr>
                                      <p:from x="100000" y="100000"/>
                                      <p:to x="200000" y="450000"/>
                                    </p:animScale>
                                    <p:anim calcmode="lin" valueType="num" from="(#ppt_x)" to="(0.5)">
                                      <p:cBhvr additive="repl">
                                        <p:cTn id="118" dur="123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0.5)" to="(0.5)">
                                      <p:cBhvr additive="repl">
                                        <p:cTn id="119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#ppt_y+0.4)">
                                      <p:cBhvr additive="repl">
                                        <p:cTn id="120" dur="123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 calcmode="lin" valueType="num" from="(#ppt_y)" to="(#ppt_y)">
                                      <p:cBhvr additive="repl">
                                        <p:cTn id="121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xit" presetID="51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5" dur="770" fill="hold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from x="200000" y="450000"/>
                                      <p:to x="10000" y="10000"/>
                                    </p:animScale>
                                    <p:animScale>
                                      <p:cBhvr>
                                        <p:cTn id="126" dur="1230" fill="hold"/>
                                        <p:tgtEl>
                                          <p:spTgt spid="48"/>
                                        </p:tgtEl>
                                      </p:cBhvr>
                                      <p:from x="100000" y="100000"/>
                                      <p:to x="200000" y="450000"/>
                                    </p:animScale>
                                    <p:anim calcmode="lin" valueType="num" from="(#ppt_x)" to="(0.5)">
                                      <p:cBhvr additive="repl">
                                        <p:cTn id="127" dur="123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0.5)" to="(0.5)">
                                      <p:cBhvr additive="repl">
                                        <p:cTn id="128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#ppt_y+0.4)">
                                      <p:cBhvr additive="repl">
                                        <p:cTn id="129" dur="123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 calcmode="lin" valueType="num" from="(#ppt_y)" to="(#ppt_y)">
                                      <p:cBhvr additive="repl">
                                        <p:cTn id="130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7250040" y="0"/>
            <a:ext cx="1893960" cy="24210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0" y="2421000"/>
            <a:ext cx="1893960" cy="2421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7093080" y="0"/>
            <a:ext cx="1893600" cy="24210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5364000" y="0"/>
            <a:ext cx="1893960" cy="24210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5"/>
          <a:stretch/>
        </p:blipFill>
        <p:spPr>
          <a:xfrm>
            <a:off x="3564000" y="0"/>
            <a:ext cx="1893960" cy="24210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6"/>
          <a:stretch/>
        </p:blipFill>
        <p:spPr>
          <a:xfrm>
            <a:off x="1692360" y="0"/>
            <a:ext cx="1893960" cy="24210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7"/>
          <a:stretch/>
        </p:blipFill>
        <p:spPr>
          <a:xfrm>
            <a:off x="0" y="0"/>
            <a:ext cx="1893960" cy="2421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8"/>
          <a:stretch/>
        </p:blipFill>
        <p:spPr>
          <a:xfrm>
            <a:off x="7250040" y="2492280"/>
            <a:ext cx="1893960" cy="24210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9"/>
          <a:stretch/>
        </p:blipFill>
        <p:spPr>
          <a:xfrm>
            <a:off x="5508720" y="2276640"/>
            <a:ext cx="1893960" cy="2420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10"/>
          <a:stretch/>
        </p:blipFill>
        <p:spPr>
          <a:xfrm>
            <a:off x="3708360" y="2276640"/>
            <a:ext cx="1893960" cy="24206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11"/>
          <a:stretch/>
        </p:blipFill>
        <p:spPr>
          <a:xfrm>
            <a:off x="1763640" y="2276640"/>
            <a:ext cx="1893960" cy="24206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12"/>
          <a:stretch/>
        </p:blipFill>
        <p:spPr>
          <a:xfrm>
            <a:off x="3276720" y="4441680"/>
            <a:ext cx="3024000" cy="23781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13"/>
          <a:stretch/>
        </p:blipFill>
        <p:spPr>
          <a:xfrm>
            <a:off x="0" y="4413240"/>
            <a:ext cx="3203640" cy="25192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14"/>
          <a:stretch/>
        </p:blipFill>
        <p:spPr>
          <a:xfrm>
            <a:off x="6372360" y="4678200"/>
            <a:ext cx="2771640" cy="21798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763640" y="1844640"/>
            <a:ext cx="5256360" cy="3168720"/>
          </a:xfrm>
          <a:prstGeom prst="wedgeEllipseCallout">
            <a:avLst>
              <a:gd name="adj1" fmla="val 67458"/>
              <a:gd name="adj2" fmla="val 57115"/>
            </a:avLst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3059280" y="2597040"/>
            <a:ext cx="2736720" cy="1663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Harrington"/>
              </a:rPr>
              <a:t>Attacke!</a:t>
            </a:r>
            <a:endParaRPr b="1" lang="en-US" sz="4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Harrington"/>
              <a:ea typeface="Harringto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5"/>
          <a:stretch/>
        </p:blipFill>
        <p:spPr>
          <a:xfrm>
            <a:off x="914400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7" dur="1" fill="hold"/>
                                        <p:tgtEl>
                                          <p:spTgt spid="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" nodeType="after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000"/>
                            </p:stCondLst>
                            <p:childTnLst>
                              <p:par>
                                <p:cTn id="149" nodeType="after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000"/>
                            </p:stCondLst>
                            <p:childTnLst>
                              <p:par>
                                <p:cTn id="154" nodeType="after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4000"/>
                            </p:stCondLst>
                            <p:childTnLst>
                              <p:par>
                                <p:cTn id="159" nodeType="after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5000"/>
                            </p:stCondLst>
                            <p:childTnLst>
                              <p:par>
                                <p:cTn id="164" nodeType="after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6000"/>
                            </p:stCondLst>
                            <p:childTnLst>
                              <p:par>
                                <p:cTn id="169" nodeType="after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8000"/>
                            </p:stCondLst>
                            <p:childTnLst>
                              <p:par>
                                <p:cTn id="179" nodeType="after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9000"/>
                            </p:stCondLst>
                            <p:childTnLst>
                              <p:par>
                                <p:cTn id="184" nodeType="after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10000"/>
                            </p:stCondLst>
                            <p:childTnLst>
                              <p:par>
                                <p:cTn id="189" nodeType="after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1000"/>
                            </p:stCondLst>
                            <p:childTnLst>
                              <p:par>
                                <p:cTn id="194" nodeType="after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1500"/>
                            </p:stCondLst>
                            <p:childTnLst>
                              <p:par>
                                <p:cTn id="199" nodeType="after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12500"/>
                            </p:stCondLst>
                            <p:childTnLst>
                              <p:par>
                                <p:cTn id="204" nodeType="after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13500"/>
                            </p:stCondLst>
                            <p:childTnLst>
                              <p:par>
                                <p:cTn id="20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15500"/>
                            </p:stCondLst>
                            <p:childTnLst>
                              <p:par>
                                <p:cTn id="216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18" dur="1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19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20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21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18500"/>
                            </p:stCondLst>
                            <p:childTnLst>
                              <p:par>
                                <p:cTn id="22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4" dur="3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1500"/>
                            </p:stCondLst>
                            <p:childTnLst>
                              <p:par>
                                <p:cTn id="227" nodeType="afterEffect" fill="hold" presetClass="exit" presetID="4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8" dur="10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fltVal val="-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1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22500"/>
                            </p:stCondLst>
                            <p:childTnLst>
                              <p:par>
                                <p:cTn id="234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235" dur="2000" fill="hold"/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6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237" dur="2000" fill="hold"/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8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239" dur="200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0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241" dur="2000" fill="hold"/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2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243" dur="200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4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245" dur="200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6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247" dur="2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8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249" dur="2000" fill="hold"/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0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251" dur="20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2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253" dur="2000" fill="hold"/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4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255" dur="2000" fill="hold"/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6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257" dur="20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8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259" dur="20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0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261" dur="2000" fill="hold"/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24500"/>
                            </p:stCondLst>
                            <p:childTnLst>
                              <p:par>
                                <p:cTn id="263" nodeType="afterEffect" fill="hold" presetClass="exit" presetID="7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64" dur="10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10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25500"/>
                            </p:stCondLst>
                            <p:childTnLst>
                              <p:par>
                                <p:cTn id="268" nodeType="afterEffect" fill="hold" presetClass="exit" presetID="7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69" dur="10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10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26500"/>
                            </p:stCondLst>
                            <p:childTnLst>
                              <p:par>
                                <p:cTn id="273" nodeType="afterEffect" fill="hold" presetClass="exit" presetID="7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74" dur="10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10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27500"/>
                            </p:stCondLst>
                            <p:childTnLst>
                              <p:par>
                                <p:cTn id="278" nodeType="afterEffect" fill="hold" presetClass="exit" presetID="7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79" dur="10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10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8500"/>
                            </p:stCondLst>
                            <p:childTnLst>
                              <p:par>
                                <p:cTn id="283" nodeType="afterEffect" fill="hold" presetClass="exit" presetID="7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84" dur="10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10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29500"/>
                            </p:stCondLst>
                            <p:childTnLst>
                              <p:par>
                                <p:cTn id="288" nodeType="afterEffect" fill="hold" presetClass="exit" presetID="7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89" dur="10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10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30500"/>
                            </p:stCondLst>
                            <p:childTnLst>
                              <p:par>
                                <p:cTn id="293" nodeType="afterEffect" fill="hold" presetClass="exit" presetID="7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4" dur="10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10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31500"/>
                            </p:stCondLst>
                            <p:childTnLst>
                              <p:par>
                                <p:cTn id="298" nodeType="afterEffect" fill="hold" presetClass="exit" presetID="7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9" dur="10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32500"/>
                            </p:stCondLst>
                            <p:childTnLst>
                              <p:par>
                                <p:cTn id="303" nodeType="afterEffect" fill="hold" presetClass="exit" presetID="7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04" dur="10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33500"/>
                            </p:stCondLst>
                            <p:childTnLst>
                              <p:par>
                                <p:cTn id="308" nodeType="afterEffect" fill="hold" presetClass="exit" presetID="7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09" dur="10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10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34500"/>
                            </p:stCondLst>
                            <p:childTnLst>
                              <p:par>
                                <p:cTn id="313" nodeType="afterEffect" fill="hold" presetClass="exit" presetID="7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14" dur="10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10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35500"/>
                            </p:stCondLst>
                            <p:childTnLst>
                              <p:par>
                                <p:cTn id="318" nodeType="afterEffect" fill="hold" presetClass="exit" presetID="7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19" dur="10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10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36500"/>
                            </p:stCondLst>
                            <p:childTnLst>
                              <p:par>
                                <p:cTn id="323" nodeType="afterEffect" fill="hold" presetClass="exit" presetID="7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24" dur="10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10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37500"/>
                            </p:stCondLst>
                            <p:childTnLst>
                              <p:par>
                                <p:cTn id="328" nodeType="afterEffect" fill="hold" presetClass="exit" presetID="7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29" dur="10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10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 rot="10800000">
            <a:off x="0" y="1844640"/>
            <a:ext cx="2411280" cy="5013360"/>
          </a:xfrm>
          <a:prstGeom prst="can">
            <a:avLst>
              <a:gd name="adj" fmla="val 25000"/>
            </a:avLst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rot="10800000">
            <a:off x="6622560" y="1773360"/>
            <a:ext cx="2521080" cy="5084640"/>
          </a:xfrm>
          <a:prstGeom prst="can">
            <a:avLst>
              <a:gd name="adj" fmla="val 25000"/>
            </a:avLst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4365720"/>
            <a:ext cx="9144000" cy="249228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5508720" y="3141720"/>
            <a:ext cx="1331640" cy="11574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564000" y="3213000"/>
            <a:ext cx="1332000" cy="11574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2268360" y="3141720"/>
            <a:ext cx="1332000" cy="11574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4"/>
          <a:stretch/>
        </p:blipFill>
        <p:spPr>
          <a:xfrm>
            <a:off x="6588000" y="836640"/>
            <a:ext cx="1332000" cy="11574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5"/>
          <a:stretch/>
        </p:blipFill>
        <p:spPr>
          <a:xfrm>
            <a:off x="7812000" y="981000"/>
            <a:ext cx="1332000" cy="11574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6"/>
          <a:stretch/>
        </p:blipFill>
        <p:spPr>
          <a:xfrm>
            <a:off x="1042920" y="1125360"/>
            <a:ext cx="1332000" cy="1157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7"/>
          <a:stretch/>
        </p:blipFill>
        <p:spPr>
          <a:xfrm>
            <a:off x="0" y="907920"/>
            <a:ext cx="1332000" cy="1157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8"/>
          <a:stretch/>
        </p:blipFill>
        <p:spPr>
          <a:xfrm>
            <a:off x="4716360" y="3141720"/>
            <a:ext cx="1332000" cy="11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0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0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5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0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5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0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5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0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5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2916360" y="5329080"/>
            <a:ext cx="1944720" cy="1528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0" y="2349360"/>
            <a:ext cx="1908000" cy="4508640"/>
          </a:xfrm>
          <a:custGeom>
            <a:avLst/>
            <a:gdLst>
              <a:gd name="textAreaLeft" fmla="*/ 92880 w 1908000"/>
              <a:gd name="textAreaRight" fmla="*/ 1815120 w 1908000"/>
              <a:gd name="textAreaTop" fmla="*/ 92880 h 4508640"/>
              <a:gd name="textAreaBottom" fmla="*/ 4415760 h 4508640"/>
            </a:gdLst>
            <a:ahLst/>
            <a:rect l="textAreaLeft" t="textAreaTop" r="textAreaRight" b="textAreaBottom"/>
            <a:pathLst>
              <a:path w="21600" h="51036">
                <a:moveTo>
                  <a:pt x="3600" y="0"/>
                </a:moveTo>
                <a:arcTo wR="3600" hR="3600" stAng="16200000" swAng="-5400000"/>
                <a:lnTo>
                  <a:pt x="0" y="47436"/>
                </a:lnTo>
                <a:arcTo wR="3600" hR="3600" stAng="10800000" swAng="-5400000"/>
                <a:lnTo>
                  <a:pt x="18000" y="5103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0" y="1125360"/>
            <a:ext cx="1079640" cy="11574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1116000" y="1268280"/>
            <a:ext cx="863640" cy="108108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4"/>
          <a:stretch/>
        </p:blipFill>
        <p:spPr>
          <a:xfrm>
            <a:off x="1908000" y="5329080"/>
            <a:ext cx="1944720" cy="15289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5"/>
          <a:stretch/>
        </p:blipFill>
        <p:spPr>
          <a:xfrm>
            <a:off x="5435640" y="5589720"/>
            <a:ext cx="992160" cy="12682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6"/>
          <a:stretch/>
        </p:blipFill>
        <p:spPr>
          <a:xfrm>
            <a:off x="6300720" y="5589720"/>
            <a:ext cx="992160" cy="126828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7"/>
          <a:stretch/>
        </p:blipFill>
        <p:spPr>
          <a:xfrm>
            <a:off x="7236000" y="5589720"/>
            <a:ext cx="992160" cy="12682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8"/>
          <a:stretch/>
        </p:blipFill>
        <p:spPr>
          <a:xfrm>
            <a:off x="8151840" y="5589720"/>
            <a:ext cx="992160" cy="12682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9"/>
          <a:stretch/>
        </p:blipFill>
        <p:spPr>
          <a:xfrm>
            <a:off x="3851280" y="5329080"/>
            <a:ext cx="1944720" cy="152892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2195640" y="1989000"/>
            <a:ext cx="504720" cy="432000"/>
          </a:xfrm>
          <a:prstGeom prst="line">
            <a:avLst/>
          </a:prstGeom>
          <a:ln w="25560">
            <a:solidFill>
              <a:srgbClr val="6633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348000" y="3068640"/>
            <a:ext cx="503280" cy="576360"/>
          </a:xfrm>
          <a:prstGeom prst="line">
            <a:avLst/>
          </a:prstGeom>
          <a:ln w="25560">
            <a:solidFill>
              <a:srgbClr val="6633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19640" y="1844640"/>
            <a:ext cx="576000" cy="576360"/>
          </a:xfrm>
          <a:prstGeom prst="line">
            <a:avLst/>
          </a:prstGeom>
          <a:ln w="25560">
            <a:solidFill>
              <a:srgbClr val="6633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627280" y="3284640"/>
            <a:ext cx="576360" cy="504720"/>
          </a:xfrm>
          <a:prstGeom prst="line">
            <a:avLst/>
          </a:prstGeom>
          <a:ln w="25560">
            <a:solidFill>
              <a:srgbClr val="6633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427640" y="3357720"/>
            <a:ext cx="576000" cy="576000"/>
          </a:xfrm>
          <a:prstGeom prst="line">
            <a:avLst/>
          </a:prstGeom>
          <a:ln w="25560">
            <a:solidFill>
              <a:srgbClr val="6633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03640" y="0"/>
            <a:ext cx="5256000" cy="1268280"/>
          </a:xfrm>
          <a:prstGeom prst="wedgeRoundRectCallout">
            <a:avLst>
              <a:gd name="adj1" fmla="val -80472"/>
              <a:gd name="adj2" fmla="val 72277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564000" y="260280"/>
            <a:ext cx="453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LU" sz="6000" spc="-1" strike="noStrike" u="sng">
                <a:solidFill>
                  <a:srgbClr val="000000"/>
                </a:solidFill>
                <a:uFillTx/>
                <a:latin typeface="SimSun"/>
              </a:rPr>
              <a:t>Feue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0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4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4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2000"/>
                            </p:stCondLst>
                            <p:childTnLst>
                              <p:par>
                                <p:cTn id="46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arrow.wav"/>
                                        </p:tgtEl>
                                      </p:cMediaNode>
                                    </p:audio>
                                    <p:animMotion origin="layout" path="M 0 0 L 0.34635 0.27291 E">
                                      <p:cBhvr>
                                        <p:cTn id="462" dur="2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6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34635 0.27291 E">
                                      <p:cBhvr>
                                        <p:cTn id="464" dur="20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6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34635 0.27291 E">
                                      <p:cBhvr>
                                        <p:cTn id="466" dur="2000" fill="hold"/>
                                        <p:tgtEl>
                                          <p:spTgt spid="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6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34635 0.27291 E">
                                      <p:cBhvr>
                                        <p:cTn id="468" dur="2000" fill="hold"/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6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34635 0.27291 E">
                                      <p:cBhvr>
                                        <p:cTn id="470" dur="2000" fill="hold"/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4000"/>
                            </p:stCondLst>
                            <p:childTnLst>
                              <p:par>
                                <p:cTn id="472" nodeType="after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47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5" nodeType="with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47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8" nodeType="with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47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48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4" nodeType="with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48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4500"/>
                            </p:stCondLst>
                            <p:childTnLst>
                              <p:par>
                                <p:cTn id="488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295 E">
                                      <p:cBhvr>
                                        <p:cTn id="489" dur="2000" fill="hold"/>
                                        <p:tgtEl>
                                          <p:spTgt spid="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0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295 E">
                                      <p:cBhvr>
                                        <p:cTn id="491" dur="2000" fill="hold"/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2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295 E">
                                      <p:cBhvr>
                                        <p:cTn id="493" dur="2000" fill="hold"/>
                                        <p:tgtEl>
                                          <p:spTgt spid="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6500"/>
                            </p:stCondLst>
                            <p:childTnLst>
                              <p:par>
                                <p:cTn id="495" nodeType="afterEffect" fill="hold" presetClass="exit" presetID="4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96" dur="10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fltVal val="-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0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99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1" nodeType="withEffect" fill="hold" presetClass="exit" presetID="4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02" dur="10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10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fltVal val="-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05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7" nodeType="withEffect" fill="hold" presetClass="exit" presetID="4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08" dur="10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fltVal val="-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0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11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3" nodeType="withEffect" fill="hold" presetClass="exit" presetID="4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14" dur="10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0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fltVal val="-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0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17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8028000" y="620640"/>
            <a:ext cx="289080" cy="504720"/>
          </a:xfrm>
          <a:custGeom>
            <a:avLst/>
            <a:gdLst>
              <a:gd name="textAreaLeft" fmla="*/ 14040 w 289080"/>
              <a:gd name="textAreaRight" fmla="*/ 275040 w 289080"/>
              <a:gd name="textAreaTop" fmla="*/ 14040 h 504720"/>
              <a:gd name="textAreaBottom" fmla="*/ 490680 h 504720"/>
            </a:gdLst>
            <a:ahLst/>
            <a:rect l="textAreaLeft" t="textAreaTop" r="textAreaRight" b="textAreaBottom"/>
            <a:pathLst>
              <a:path w="21600" h="37693">
                <a:moveTo>
                  <a:pt x="3600" y="0"/>
                </a:moveTo>
                <a:arcTo wR="3600" hR="3600" stAng="16200000" swAng="-5400000"/>
                <a:lnTo>
                  <a:pt x="0" y="34093"/>
                </a:lnTo>
                <a:arcTo wR="3600" hR="3600" stAng="10800000" swAng="-5400000"/>
                <a:lnTo>
                  <a:pt x="18000" y="3769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748720" y="620640"/>
            <a:ext cx="395280" cy="504720"/>
          </a:xfrm>
          <a:custGeom>
            <a:avLst/>
            <a:gdLst>
              <a:gd name="textAreaLeft" fmla="*/ 19080 w 395280"/>
              <a:gd name="textAreaRight" fmla="*/ 376200 w 395280"/>
              <a:gd name="textAreaTop" fmla="*/ 19080 h 504720"/>
              <a:gd name="textAreaBottom" fmla="*/ 485640 h 504720"/>
            </a:gdLst>
            <a:ahLst/>
            <a:rect l="textAreaLeft" t="textAreaTop" r="textAreaRight" b="textAreaBottom"/>
            <a:pathLst>
              <a:path w="21600" h="27575">
                <a:moveTo>
                  <a:pt x="3600" y="0"/>
                </a:moveTo>
                <a:arcTo wR="3600" hR="3600" stAng="16200000" swAng="-5400000"/>
                <a:lnTo>
                  <a:pt x="0" y="23975"/>
                </a:lnTo>
                <a:arcTo wR="3600" hR="3600" stAng="10800000" swAng="-5400000"/>
                <a:lnTo>
                  <a:pt x="18000" y="2757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028000" y="907920"/>
            <a:ext cx="1116000" cy="2174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4920" y="669960"/>
            <a:ext cx="7993080" cy="4714920"/>
          </a:xfrm>
          <a:custGeom>
            <a:avLst/>
            <a:gdLst/>
            <a:ahLst/>
            <a:rect l="l" t="t" r="r" b="b"/>
            <a:pathLst>
              <a:path w="5035" h="2970">
                <a:moveTo>
                  <a:pt x="5035" y="287"/>
                </a:moveTo>
                <a:cubicBezTo>
                  <a:pt x="4937" y="143"/>
                  <a:pt x="4839" y="0"/>
                  <a:pt x="4264" y="423"/>
                </a:cubicBezTo>
                <a:cubicBezTo>
                  <a:pt x="3689" y="846"/>
                  <a:pt x="2185" y="2684"/>
                  <a:pt x="1588" y="2827"/>
                </a:cubicBezTo>
                <a:cubicBezTo>
                  <a:pt x="991" y="2970"/>
                  <a:pt x="946" y="1556"/>
                  <a:pt x="681" y="1284"/>
                </a:cubicBezTo>
                <a:cubicBezTo>
                  <a:pt x="416" y="1012"/>
                  <a:pt x="113" y="1209"/>
                  <a:pt x="0" y="119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24000" y="1916280"/>
            <a:ext cx="550800" cy="5760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24000" y="2349360"/>
            <a:ext cx="712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1763640" y="4581360"/>
            <a:ext cx="190440" cy="26064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3059280" y="4724280"/>
            <a:ext cx="190440" cy="2606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4"/>
          <a:stretch/>
        </p:blipFill>
        <p:spPr>
          <a:xfrm>
            <a:off x="1835280" y="4724280"/>
            <a:ext cx="190440" cy="2606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5"/>
          <a:stretch/>
        </p:blipFill>
        <p:spPr>
          <a:xfrm>
            <a:off x="2843280" y="4797360"/>
            <a:ext cx="190440" cy="2602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6"/>
          <a:stretch/>
        </p:blipFill>
        <p:spPr>
          <a:xfrm>
            <a:off x="2916360" y="4797360"/>
            <a:ext cx="190440" cy="2602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7"/>
          <a:stretch/>
        </p:blipFill>
        <p:spPr>
          <a:xfrm>
            <a:off x="1979640" y="4797360"/>
            <a:ext cx="190440" cy="2602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8"/>
          <a:stretch/>
        </p:blipFill>
        <p:spPr>
          <a:xfrm>
            <a:off x="2050920" y="4869000"/>
            <a:ext cx="190800" cy="2602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9"/>
          <a:stretch/>
        </p:blipFill>
        <p:spPr>
          <a:xfrm>
            <a:off x="2700360" y="4941720"/>
            <a:ext cx="190440" cy="26064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10"/>
          <a:stretch/>
        </p:blipFill>
        <p:spPr>
          <a:xfrm>
            <a:off x="2771640" y="4941720"/>
            <a:ext cx="190800" cy="26064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11"/>
          <a:stretch/>
        </p:blipFill>
        <p:spPr>
          <a:xfrm>
            <a:off x="2627280" y="4941720"/>
            <a:ext cx="190440" cy="26064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12"/>
          <a:stretch/>
        </p:blipFill>
        <p:spPr>
          <a:xfrm>
            <a:off x="2124000" y="4941720"/>
            <a:ext cx="190440" cy="26064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13"/>
          <a:stretch/>
        </p:blipFill>
        <p:spPr>
          <a:xfrm>
            <a:off x="2195640" y="4941720"/>
            <a:ext cx="190440" cy="2606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14"/>
          <a:stretch/>
        </p:blipFill>
        <p:spPr>
          <a:xfrm>
            <a:off x="2340000" y="4941720"/>
            <a:ext cx="190440" cy="26064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15"/>
          <a:stretch/>
        </p:blipFill>
        <p:spPr>
          <a:xfrm>
            <a:off x="2411280" y="4941720"/>
            <a:ext cx="190800" cy="26064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16"/>
          <a:stretch/>
        </p:blipFill>
        <p:spPr>
          <a:xfrm>
            <a:off x="2556000" y="4941720"/>
            <a:ext cx="190440" cy="26064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17"/>
          <a:stretch/>
        </p:blipFill>
        <p:spPr>
          <a:xfrm>
            <a:off x="2843280" y="4941720"/>
            <a:ext cx="190440" cy="2606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18"/>
          <a:stretch/>
        </p:blipFill>
        <p:spPr>
          <a:xfrm>
            <a:off x="2484360" y="4941720"/>
            <a:ext cx="190440" cy="26064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19"/>
          <a:stretch/>
        </p:blipFill>
        <p:spPr>
          <a:xfrm>
            <a:off x="2268360" y="4941720"/>
            <a:ext cx="190800" cy="2606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0"/>
          <a:stretch/>
        </p:blipFill>
        <p:spPr>
          <a:xfrm>
            <a:off x="914400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fill="hold">
                      <p:stCondLst>
                        <p:cond delay="0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24" dur="1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laser.wav"/>
                                        </p:tgtEl>
                                      </p:cMediaNode>
                                    </p:audio>
                                    <p:animMotion origin="layout" path="M -2.22222E-006 -2.22222E-006 C 0.00555 -0.02199 -0.00347 0.01204 0.00417 -0.01088 C 0.00538 -0.01435 0.00469 -0.01898 0.00677 -0.02176 C 0.01423 -0.03171 0.02292 -0.03982 0.02969 -0.05046 C 0.03732 -0.0625 0.04653 -0.07245 0.05538 -0.08287 C 0.07378 -0.10463 0.0941 -0.12454 0.11753 -0.13519 C 0.125 -0.14259 0.13316 -0.14699 0.14184 -0.15139 C 0.1434 -0.15208 0.14444 -0.15417 0.14601 -0.15509 C 0.14722 -0.15602 0.14861 -0.15625 0.15 -0.15671 C 0.16059 -0.16551 0.1743 -0.16806 0.18646 -0.17292 C 0.19514 -0.18171 0.2059 -0.18658 0.21632 -0.19097 C 0.21823 -0.1919 0.21996 -0.19329 0.2217 -0.19468 C 0.22309 -0.19583 0.22396 -0.19745 0.22569 -0.19815 C 0.22778 -0.19931 0.23021 -0.19931 0.23229 -0.2 C 0.23385 -0.20046 0.23507 -0.20116 0.23646 -0.20185 C 0.24965 -0.20857 0.2618 -0.21528 0.27569 -0.21806 C 0.29219 -0.2257 0.31007 -0.23102 0.32708 -0.23611 C 0.33368 -0.2382 0.34045 -0.24283 0.34739 -0.24329 C 0.36267 -0.24445 0.37795 -0.24445 0.39323 -0.24514 C 0.40226 -0.24676 0.41146 -0.2507 0.42031 -0.25232 C 0.44392 -0.25648 0.51094 -0.25579 0.51215 -0.25579 C 0.89566 -0.25324 0.67274 -0.26806 0.77569 -0.25046 C 0.78385 -0.24676 0.79288 -0.24653 0.80139 -0.24514 C 0.8151 -0.23889 0.80677 -0.24167 0.82708 -0.23958 C 0.83055 -0.23658 0.83785 -0.23056 0.84184 -0.23056 E">
                                      <p:cBhvr>
                                        <p:cTn id="527" dur="2000" fill="hold"/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2000"/>
                            </p:stCondLst>
                            <p:childTnLst>
                              <p:par>
                                <p:cTn id="52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3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2500"/>
                            </p:stCondLst>
                            <p:childTnLst>
                              <p:par>
                                <p:cTn id="53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5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6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fill="hold">
                            <p:stCondLst>
                              <p:cond delay="4500"/>
                            </p:stCondLst>
                            <p:childTnLst>
                              <p:par>
                                <p:cTn id="5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laser.wav"/>
                                        </p:tgtEl>
                                      </p:cMediaNode>
                                    </p:audio>
                                    <p:animMotion origin="layout" path="M -1.11111E-006 -6.2963E-006 C 0.00295 -0.01552 0.01319 -0.02385 0.02031 -0.03612 C 0.02534 -0.04468 0.02795 -0.05371 0.03385 -0.06135 C 0.03715 -0.07038 0.04097 -0.07917 0.04705 -0.08473 C 0.05069 -0.10394 0.06059 -0.11505 0.07031 -0.12802 C 0.08507 -0.14792 0.06944 -0.12894 0.0783 -0.14237 C 0.08316 -0.14978 0.08837 -0.15649 0.09323 -0.16413 C 0.09583 -0.16853 0.09722 -0.17431 0.1 -0.17848 C 0.10312 -0.18357 0.1092 -0.18913 0.11354 -0.19283 C 0.11857 -0.20371 0.12951 -0.21343 0.13923 -0.21621 C 0.14496 -0.22431 0.15295 -0.23033 0.16076 -0.23427 C 0.16805 -0.24167 0.17639 -0.24653 0.18507 -0.25047 C 0.19097 -0.25325 0.19462 -0.25811 0.2 -0.26135 C 0.20798 -0.26621 0.21892 -0.26598 0.22708 -0.26667 C 0.2993 -0.26575 0.36701 -0.26343 0.43784 -0.2595 C 0.44635 -0.25556 0.45468 -0.24954 0.46354 -0.247 C 0.47205 -0.24098 0.47951 -0.23218 0.48906 -0.22894 C 0.4908 -0.22709 0.49253 -0.22454 0.49462 -0.22339 C 0.49965 -0.22038 0.51076 -0.21621 0.51076 -0.21621 C 0.52153 -0.20186 0.50955 -0.21505 0.52552 -0.20556 C 0.52847 -0.20371 0.5309 -0.20024 0.53368 -0.19839 C 0.53611 -0.19677 0.53923 -0.19607 0.54166 -0.19468 C 0.55052 -0.18982 0.55885 -0.18241 0.56753 -0.17663 C 0.57673 -0.17038 0.5875 -0.16575 0.59705 -0.16042 C 0.60225 -0.15741 0.60833 -0.15672 0.61354 -0.15325 C 0.6184 -0.14978 0.62326 -0.14584 0.62812 -0.14237 C 0.63229 -0.13542 0.63524 -0.12917 0.64184 -0.12616 C 0.6434 -0.12431 0.64548 -0.12292 0.64705 -0.12084 C 0.64826 -0.11922 0.64861 -0.11667 0.64982 -0.11552 C 0.6533 -0.11135 0.65712 -0.10834 0.66076 -0.10464 C 0.6651 -0.09954 0.66475 -0.10348 0.66475 -0.09908 E">
                                      <p:cBhvr>
                                        <p:cTn id="541" dur="2000" fill="hold"/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fill="hold">
                            <p:stCondLst>
                              <p:cond delay="6500"/>
                            </p:stCondLst>
                            <p:childTnLst>
                              <p:par>
                                <p:cTn id="54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4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7000"/>
                            </p:stCondLst>
                            <p:childTnLst>
                              <p:par>
                                <p:cTn id="54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0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9000"/>
                            </p:stCondLst>
                            <p:childTnLst>
                              <p:par>
                                <p:cTn id="55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laser.wav"/>
                                        </p:tgtEl>
                                      </p:cMediaNode>
                                    </p:audio>
                                    <p:animMotion origin="layout" path="M -1.11111E-006 -4.07407E-006 C 0.00538 -0.00741 0.01215 -0.01111 0.01892 -0.0162 C 0.03437 -0.02778 0.05034 -0.03796 0.06614 -0.04884 C 0.06979 -0.05139 0.07222 -0.05625 0.07569 -0.05949 C 0.08871 -0.07153 0.10278 -0.08171 0.11493 -0.0956 C 0.12187 -0.10347 0.12812 -0.11343 0.13646 -0.11898 C 0.14444 -0.1243 0.15364 -0.13032 0.16215 -0.13333 C 0.18437 -0.1412 0.15364 -0.12731 0.18107 -0.13889 C 0.18767 -0.14167 0.19357 -0.14444 0.2 -0.14792 C 0.2026 -0.1493 0.20816 -0.15139 0.20816 -0.15139 C 0.21823 -0.16065 0.23177 -0.16412 0.24323 -0.16944 C 0.27795 -0.18565 0.31354 -0.1912 0.35 -0.19838 C 0.36875 -0.20648 0.38871 -0.20903 0.40816 -0.21273 C 0.42968 -0.2169 0.45121 -0.22292 0.47274 -0.22708 C 0.49045 -0.23495 0.5085 -0.24051 0.52691 -0.24329 C 0.56927 -0.24259 0.61146 -0.24259 0.65399 -0.24143 C 0.66232 -0.2412 0.67135 -0.23866 0.67968 -0.23611 C 0.68333 -0.23495 0.69045 -0.23241 0.69045 -0.23241 C 0.72257 -0.20579 0.76771 -0.22407 0.80139 -0.22361 C 0.81041 -0.21528 0.79982 -0.22407 0.81076 -0.21805 C 0.81718 -0.21435 0.81302 -0.21481 0.81892 -0.20903 C 0.82222 -0.20579 0.83889 -0.19815 0.84323 -0.19653 C 0.84687 -0.19329 0.85017 -0.19167 0.85399 -0.18935 E">
                                      <p:cBhvr>
                                        <p:cTn id="555" dur="2000" fill="hold"/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11000"/>
                            </p:stCondLst>
                            <p:childTnLst>
                              <p:par>
                                <p:cTn id="55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5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11500"/>
                            </p:stCondLst>
                            <p:childTnLst>
                              <p:par>
                                <p:cTn id="56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3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4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13500"/>
                            </p:stCondLst>
                            <p:childTnLst>
                              <p:par>
                                <p:cTn id="56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laser.wav"/>
                                        </p:tgtEl>
                                      </p:cMediaNode>
                                    </p:audio>
                                    <p:animMotion origin="layout" path="M -1.11111E-006 -3.7037E-007 C 0.00642 -0.01227 0.01354 -0.0206 0.02291 -0.02871 C 0.03003 -0.04306 0.03906 -0.05209 0.05139 -0.05764 C 0.06545 -0.0706 0.08333 -0.0706 0.09861 -0.07917 C 0.10555 -0.0831 0.11007 -0.08866 0.11753 -0.0919 C 0.16302 -0.15255 0.10868 -0.1213 0.24323 -0.12616 C 0.27257 -0.13125 0.30173 -0.13959 0.33107 -0.14422 C 0.36823 -0.15023 0.4059 -0.15301 0.44323 -0.15486 C 0.48264 -0.16204 0.52239 -0.1625 0.56198 -0.16389 C 0.5875 -0.16644 0.6125 -0.17037 0.63784 -0.17292 C 0.65416 -0.17848 0.67239 -0.17755 0.68923 -0.1801 C 0.70121 -0.18565 0.7158 -0.18588 0.7283 -0.18727 C 0.73784 -0.19144 0.72743 -0.18727 0.746 -0.19098 C 0.76597 -0.19491 0.7835 -0.19861 0.80399 -0.2 C 0.8085 -0.20093 0.81302 -0.20324 0.81753 -0.20371 C 0.82517 -0.20463 0.84045 -0.20533 0.84045 -0.20533 E">
                                      <p:cBhvr>
                                        <p:cTn id="569" dur="2000" fill="hold"/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fill="hold">
                            <p:stCondLst>
                              <p:cond delay="15500"/>
                            </p:stCondLst>
                            <p:childTnLst>
                              <p:par>
                                <p:cTn id="57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7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explode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57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16000"/>
                            </p:stCondLst>
                            <p:childTnLst>
                              <p:par>
                                <p:cTn id="578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Attac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8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84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8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9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9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96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9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602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0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1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1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1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614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1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620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2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626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2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3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632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3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638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4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644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4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5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5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5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5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656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5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6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662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6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668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7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674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7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680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8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6" fill="hold">
                            <p:stCondLst>
                              <p:cond delay="17000"/>
                            </p:stCondLst>
                            <p:childTnLst>
                              <p:par>
                                <p:cTn id="68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59844 -0.56713 E">
                                      <p:cBhvr>
                                        <p:cTn id="688" dur="5000" fill="hold"/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8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59844 -0.56713 E">
                                      <p:cBhvr>
                                        <p:cTn id="690" dur="5000" fill="hold"/>
                                        <p:tgtEl>
                                          <p:spTgt spid="1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9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59844 -0.56713 E">
                                      <p:cBhvr>
                                        <p:cTn id="692" dur="5000" fill="hold"/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9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59844 -0.56713 E">
                                      <p:cBhvr>
                                        <p:cTn id="694" dur="5000" fill="hold"/>
                                        <p:tgtEl>
                                          <p:spTgt spid="1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9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59844 -0.56713 E">
                                      <p:cBhvr>
                                        <p:cTn id="696" dur="5000" fill="hold"/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9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59844 -0.56713 E">
                                      <p:cBhvr>
                                        <p:cTn id="698" dur="5000" fill="hold"/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9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59844 -0.56713 E">
                                      <p:cBhvr>
                                        <p:cTn id="700" dur="5000" fill="hold"/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0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59844 -0.56713 E">
                                      <p:cBhvr>
                                        <p:cTn id="702" dur="5000" fill="hold"/>
                                        <p:tgtEl>
                                          <p:spTgt spid="1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0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59844 -0.56713 E">
                                      <p:cBhvr>
                                        <p:cTn id="704" dur="5000" fill="hold"/>
                                        <p:tgtEl>
                                          <p:spTgt spid="1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0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59844 -0.56713 E">
                                      <p:cBhvr>
                                        <p:cTn id="706" dur="5000" fill="hold"/>
                                        <p:tgtEl>
                                          <p:spTgt spid="1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0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59844 -0.56713 E">
                                      <p:cBhvr>
                                        <p:cTn id="708" dur="5000" fill="hold"/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0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59844 -0.56713 E">
                                      <p:cBhvr>
                                        <p:cTn id="710" dur="5000" fill="hold"/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1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59844 -0.56713 E">
                                      <p:cBhvr>
                                        <p:cTn id="712" dur="5000" fill="hold"/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1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59844 -0.56713 E">
                                      <p:cBhvr>
                                        <p:cTn id="714" dur="50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1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59844 -0.56713 E">
                                      <p:cBhvr>
                                        <p:cTn id="716" dur="5000" fill="hold"/>
                                        <p:tgtEl>
                                          <p:spTgt spid="1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1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59844 -0.56713 E">
                                      <p:cBhvr>
                                        <p:cTn id="718" dur="5000" fill="hold"/>
                                        <p:tgtEl>
                                          <p:spTgt spid="1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1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59844 -0.56713 E">
                                      <p:cBhvr>
                                        <p:cTn id="720" dur="5000" fill="hold"/>
                                        <p:tgtEl>
                                          <p:spTgt spid="1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2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59844 -0.56713 E">
                                      <p:cBhvr>
                                        <p:cTn id="722" dur="5000" fill="hold"/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6948360" y="3573360"/>
            <a:ext cx="2627280" cy="213228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300720" y="4438800"/>
            <a:ext cx="2627280" cy="21319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6516720" y="4869000"/>
            <a:ext cx="2627280" cy="21319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4"/>
          <a:stretch/>
        </p:blipFill>
        <p:spPr>
          <a:xfrm>
            <a:off x="5797440" y="4438800"/>
            <a:ext cx="2627280" cy="21319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5"/>
          <a:stretch/>
        </p:blipFill>
        <p:spPr>
          <a:xfrm>
            <a:off x="5437080" y="4149720"/>
            <a:ext cx="1893960" cy="24210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6"/>
          <a:stretch/>
        </p:blipFill>
        <p:spPr>
          <a:xfrm>
            <a:off x="4645080" y="4149720"/>
            <a:ext cx="1893960" cy="24210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7"/>
          <a:stretch/>
        </p:blipFill>
        <p:spPr>
          <a:xfrm>
            <a:off x="6229440" y="4149720"/>
            <a:ext cx="1893960" cy="24210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8"/>
          <a:stretch/>
        </p:blipFill>
        <p:spPr>
          <a:xfrm>
            <a:off x="1512720" y="0"/>
            <a:ext cx="1984680" cy="27082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9"/>
          <a:stretch/>
        </p:blipFill>
        <p:spPr>
          <a:xfrm>
            <a:off x="900000" y="692280"/>
            <a:ext cx="1984320" cy="270828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10"/>
          <a:stretch/>
        </p:blipFill>
        <p:spPr>
          <a:xfrm>
            <a:off x="2089080" y="0"/>
            <a:ext cx="1984320" cy="270828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11"/>
          <a:stretch/>
        </p:blipFill>
        <p:spPr>
          <a:xfrm>
            <a:off x="468360" y="0"/>
            <a:ext cx="1984320" cy="270828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12"/>
          <a:stretch/>
        </p:blipFill>
        <p:spPr>
          <a:xfrm>
            <a:off x="720720" y="0"/>
            <a:ext cx="1984320" cy="270828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13"/>
          <a:stretch/>
        </p:blipFill>
        <p:spPr>
          <a:xfrm>
            <a:off x="504720" y="0"/>
            <a:ext cx="1984320" cy="27082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14"/>
          <a:stretch/>
        </p:blipFill>
        <p:spPr>
          <a:xfrm>
            <a:off x="0" y="0"/>
            <a:ext cx="1984320" cy="270828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15"/>
          <a:stretch/>
        </p:blipFill>
        <p:spPr>
          <a:xfrm>
            <a:off x="539640" y="620640"/>
            <a:ext cx="1984320" cy="270828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16"/>
          <a:stretch/>
        </p:blipFill>
        <p:spPr>
          <a:xfrm>
            <a:off x="-324000" y="765000"/>
            <a:ext cx="1984680" cy="270828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17"/>
          <a:stretch/>
        </p:blipFill>
        <p:spPr>
          <a:xfrm>
            <a:off x="324000" y="1268280"/>
            <a:ext cx="1984320" cy="270828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18"/>
          <a:stretch/>
        </p:blipFill>
        <p:spPr>
          <a:xfrm>
            <a:off x="4932360" y="4437000"/>
            <a:ext cx="1893960" cy="242100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19"/>
          <a:stretch/>
        </p:blipFill>
        <p:spPr>
          <a:xfrm>
            <a:off x="5724360" y="4149720"/>
            <a:ext cx="1893960" cy="242100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0"/>
          <a:stretch/>
        </p:blipFill>
        <p:spPr>
          <a:xfrm>
            <a:off x="5365800" y="4149720"/>
            <a:ext cx="1893960" cy="242100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250920" y="4653000"/>
            <a:ext cx="3960720" cy="2205000"/>
          </a:xfrm>
          <a:prstGeom prst="wedgeEllipseCallout">
            <a:avLst>
              <a:gd name="adj1" fmla="val -15328"/>
              <a:gd name="adj2" fmla="val -17181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900000" y="515772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LU" sz="2400" spc="-1" strike="noStrike">
                <a:solidFill>
                  <a:srgbClr val="000000"/>
                </a:solidFill>
                <a:latin typeface="Arial"/>
              </a:rPr>
              <a:t>Tötet si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3" dur="indefinite" restart="never" nodeType="tmRoot">
          <p:childTnLst>
            <p:seq>
              <p:cTn id="724" dur="indefinite" nodeType="mainSeq">
                <p:childTnLst>
                  <p:par>
                    <p:cTn id="725" fill="hold">
                      <p:stCondLst>
                        <p:cond delay="0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9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0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3" fill="hold">
                            <p:stCondLst>
                              <p:cond delay="2000"/>
                            </p:stCondLst>
                            <p:childTnLst>
                              <p:par>
                                <p:cTn id="73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36" dur="2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4000"/>
                            </p:stCondLst>
                            <p:childTnLst>
                              <p:par>
                                <p:cTn id="73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46459 0.36793 E">
                                      <p:cBhvr>
                                        <p:cTn id="739" dur="20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4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46459 0.36793 E">
                                      <p:cBhvr>
                                        <p:cTn id="741" dur="2000" fill="hold"/>
                                        <p:tgtEl>
                                          <p:spTgt spid="1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4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46459 0.36793 E">
                                      <p:cBhvr>
                                        <p:cTn id="743" dur="2000" fill="hold"/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4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46459 0.36793 E">
                                      <p:cBhvr>
                                        <p:cTn id="745" dur="2000" fill="hold"/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4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46459 0.36793 E">
                                      <p:cBhvr>
                                        <p:cTn id="747" dur="2000" fill="hold"/>
                                        <p:tgtEl>
                                          <p:spTgt spid="1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4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46459 0.36793 E">
                                      <p:cBhvr>
                                        <p:cTn id="749" dur="20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5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46459 0.36793 E">
                                      <p:cBhvr>
                                        <p:cTn id="751" dur="2000" fill="hold"/>
                                        <p:tgtEl>
                                          <p:spTgt spid="1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5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46459 0.36793 E">
                                      <p:cBhvr>
                                        <p:cTn id="753" dur="2000" fill="hold"/>
                                        <p:tgtEl>
                                          <p:spTgt spid="1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5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46459 0.36793 E">
                                      <p:cBhvr>
                                        <p:cTn id="755" dur="2000" fill="hold"/>
                                        <p:tgtEl>
                                          <p:spTgt spid="1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5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46459 0.36793 E">
                                      <p:cBhvr>
                                        <p:cTn id="757" dur="2000" fill="hold"/>
                                        <p:tgtEl>
                                          <p:spTgt spid="1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fill="hold">
                            <p:stCondLst>
                              <p:cond delay="6000"/>
                            </p:stCondLst>
                            <p:childTnLst>
                              <p:par>
                                <p:cTn id="759" nodeType="after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10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10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9" nodeType="with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10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9" nodeType="with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10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9" nodeType="with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10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10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9" nodeType="with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10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100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9" nodeType="with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100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9" nodeType="with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100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0" y="2565360"/>
            <a:ext cx="3578400" cy="429264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6489720" y="504720"/>
            <a:ext cx="2077920" cy="283536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6453360" y="1341360"/>
            <a:ext cx="2077920" cy="283536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066080" y="504720"/>
            <a:ext cx="2077920" cy="283536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5445000" y="504720"/>
            <a:ext cx="2078280" cy="283536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6"/>
          <a:stretch/>
        </p:blipFill>
        <p:spPr>
          <a:xfrm>
            <a:off x="5697360" y="504720"/>
            <a:ext cx="2078280" cy="283536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7"/>
          <a:stretch/>
        </p:blipFill>
        <p:spPr>
          <a:xfrm>
            <a:off x="5481720" y="504720"/>
            <a:ext cx="2077920" cy="283536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8"/>
          <a:stretch/>
        </p:blipFill>
        <p:spPr>
          <a:xfrm>
            <a:off x="4976640" y="504720"/>
            <a:ext cx="2078280" cy="283536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9"/>
          <a:stretch/>
        </p:blipFill>
        <p:spPr>
          <a:xfrm>
            <a:off x="5516640" y="1125360"/>
            <a:ext cx="2077920" cy="2835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10"/>
          <a:stretch/>
        </p:blipFill>
        <p:spPr>
          <a:xfrm>
            <a:off x="4653000" y="1270080"/>
            <a:ext cx="2077920" cy="283536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11"/>
          <a:stretch/>
        </p:blipFill>
        <p:spPr>
          <a:xfrm>
            <a:off x="5300640" y="1773360"/>
            <a:ext cx="2077920" cy="28350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2195640" y="0"/>
            <a:ext cx="3744720" cy="1844640"/>
          </a:xfrm>
          <a:prstGeom prst="cloudCallout">
            <a:avLst>
              <a:gd name="adj1" fmla="val -65856"/>
              <a:gd name="adj2" fmla="val 11712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132000" y="549360"/>
            <a:ext cx="23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LU" sz="1800" spc="-1" strike="noStrike">
                <a:solidFill>
                  <a:srgbClr val="000000"/>
                </a:solidFill>
                <a:latin typeface="Arial"/>
              </a:rPr>
              <a:t>Scheiß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2"/>
          <a:stretch/>
        </p:blipFill>
        <p:spPr>
          <a:xfrm>
            <a:off x="914400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9" dur="indefinite" restart="never" nodeType="tmRoot">
          <p:childTnLst>
            <p:seq>
              <p:cTn id="860" dur="indefinite" nodeType="mainSeq">
                <p:childTnLst>
                  <p:par>
                    <p:cTn id="861" fill="hold">
                      <p:stCondLst>
                        <p:cond delay="0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64" dur="1" fill="hold"/>
                                        <p:tgtEl>
                                          <p:spTgt spid="1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8" dur="77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69" dur="770" fill="hold"/>
                                        <p:tgtEl>
                                          <p:spTgt spid="15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7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71" dur="77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7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73" dur="77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7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5" fill="hold">
                            <p:stCondLst>
                              <p:cond delay="2000"/>
                            </p:stCondLst>
                            <p:childTnLst>
                              <p:par>
                                <p:cTn id="876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7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3" fill="hold">
                            <p:stCondLst>
                              <p:cond delay="6000"/>
                            </p:stCondLst>
                            <p:childTnLst>
                              <p:par>
                                <p:cTn id="88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44896 0.34612 E">
                                      <p:cBhvr>
                                        <p:cTn id="885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8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44896 0.34612 E">
                                      <p:cBhvr>
                                        <p:cTn id="887" dur="2000" fill="hold"/>
                                        <p:tgtEl>
                                          <p:spTgt spid="1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8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44896 0.34612 E">
                                      <p:cBhvr>
                                        <p:cTn id="889" dur="2000" fill="hold"/>
                                        <p:tgtEl>
                                          <p:spTgt spid="1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9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44896 0.34612 E">
                                      <p:cBhvr>
                                        <p:cTn id="891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9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44896 0.34612 E">
                                      <p:cBhvr>
                                        <p:cTn id="893" dur="2000" fill="hold"/>
                                        <p:tgtEl>
                                          <p:spTgt spid="1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9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44896 0.34612 E">
                                      <p:cBhvr>
                                        <p:cTn id="895" dur="2000" fill="hold"/>
                                        <p:tgtEl>
                                          <p:spTgt spid="1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9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44896 0.34612 E">
                                      <p:cBhvr>
                                        <p:cTn id="897" dur="2000" fill="hold"/>
                                        <p:tgtEl>
                                          <p:spTgt spid="1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9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44896 0.34612 E">
                                      <p:cBhvr>
                                        <p:cTn id="899" dur="2000" fill="hold"/>
                                        <p:tgtEl>
                                          <p:spTgt spid="1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0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44896 0.34612 E">
                                      <p:cBhvr>
                                        <p:cTn id="901" dur="2000" fill="hold"/>
                                        <p:tgtEl>
                                          <p:spTgt spid="1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0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44896 0.34612 E">
                                      <p:cBhvr>
                                        <p:cTn id="903" dur="2000" fill="hold"/>
                                        <p:tgtEl>
                                          <p:spTgt spid="1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4" fill="hold">
                            <p:stCondLst>
                              <p:cond delay="8000"/>
                            </p:stCondLst>
                            <p:childTnLst>
                              <p:par>
                                <p:cTn id="905" nodeType="afterEffect" fill="hold" presetClass="exit" presetID="3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from="(#ppt_x)" to="(#ppt_x+1)">
                                      <p:cBhvr additive="repl">
                                        <p:cTn id="90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07" dur="2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08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  <p:to>
                                        <p:strVal val="-1"/>
                                      </p:to>
                                    </p:se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324000" y="549360"/>
            <a:ext cx="8496000" cy="611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omic"/>
              </a:rPr>
              <a:t>Ende</a:t>
            </a:r>
            <a:endParaRPr b="1" lang="en-US" sz="8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omic"/>
              <a:ea typeface="com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0" dur="indefinite" restart="never" nodeType="tmRoot">
          <p:childTnLst>
            <p:seq>
              <p:cTn id="911" dur="indefinite" nodeType="mainSeq">
                <p:childTnLst>
                  <p:par>
                    <p:cTn id="912" fill="hold">
                      <p:stCondLst>
                        <p:cond delay="0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77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17" dur="770" fill="hold"/>
                                        <p:tgtEl>
                                          <p:spTgt spid="15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19" dur="77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21" dur="77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3" fill="hold">
                            <p:stCondLst>
                              <p:cond delay="2000"/>
                            </p:stCondLst>
                            <p:childTnLst>
                              <p:par>
                                <p:cTn id="92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925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6" fill="hold">
                            <p:stCondLst>
                              <p:cond delay="4000"/>
                            </p:stCondLst>
                            <p:childTnLst>
                              <p:par>
                                <p:cTn id="927" nodeType="afterEffect" fill="hold" presetClass="exit" presetID="51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28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29" dur="770" fill="hold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from x="200000" y="450000"/>
                                      <p:to x="10000" y="10000"/>
                                    </p:animScale>
                                    <p:animScale>
                                      <p:cBhvr>
                                        <p:cTn id="930" dur="1230" fill="hold"/>
                                        <p:tgtEl>
                                          <p:spTgt spid="155"/>
                                        </p:tgtEl>
                                      </p:cBhvr>
                                      <p:from x="100000" y="100000"/>
                                      <p:to x="200000" y="450000"/>
                                    </p:animScale>
                                    <p:anim calcmode="lin" valueType="num" from="(#ppt_x)" to="(0.5)">
                                      <p:cBhvr additive="repl">
                                        <p:cTn id="931" dur="123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0.5)" to="(0.5)">
                                      <p:cBhvr additive="repl">
                                        <p:cTn id="932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#ppt_y+0.4)">
                                      <p:cBhvr additive="repl">
                                        <p:cTn id="933" dur="123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 calcmode="lin" valueType="num" from="(#ppt_y)" to="(#ppt_y)">
                                      <p:cBhvr additive="repl">
                                        <p:cTn id="934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7T14:53:00Z</dcterms:created>
  <dc:creator>Adm. Niederanven</dc:creator>
  <dc:description/>
  <dc:language>en-US</dc:language>
  <cp:lastModifiedBy>Adm. Niederanven</cp:lastModifiedBy>
  <dcterms:modified xsi:type="dcterms:W3CDTF">2006-12-21T16:11:34Z</dcterms:modified>
  <cp:revision>17</cp:revision>
  <dc:subject/>
  <dc:title>Kreuzung</dc:title>
</cp:coreProperties>
</file>