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0D2-CE2A-4506-BE29-65B18B99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979-58C7-4BAE-A8E2-A8CA4486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5EA-7902-4025-81E0-7BA1BFF0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269-1689-4AB1-BF06-EABE260C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3D51-A1F6-4840-9A3C-054A434C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CACF-BF14-4AF8-8FF7-5D4BF79E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A0C1-3FE9-467A-AC17-D6842ED1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B01F-6F1A-45B4-8518-C7FD6223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0F78-5CEB-442A-8615-589A8589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582E-142D-4E43-B8BE-455AF1EB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2620-CFBF-47DC-9243-B85A54F9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57AC-536D-442E-AFFD-5CC1379D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D518-1782-4E4E-8CEC-D0AF4C78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6F60-4204-403E-A9AE-20161107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0CFA-794C-4297-A2A2-DFA019A4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633B-0E86-4D73-B702-04E3EA11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69E0-43C1-4ED9-A3DE-AB675607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E53-EA29-46D5-AD54-1B7355BD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399-7D1F-4508-8FA7-C946BA8A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101-44C6-42E2-B302-97441B56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C0F-A751-4F7C-950A-14877067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1C6-CC2C-4A49-9049-B644D88C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AF7-04D4-4E2B-A761-6DC0B650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460-D8A1-42A6-882E-43C4AB31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C7CF-0C9D-4B6C-BC65-3ECFF74C0E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9E79-63C7-4474-ADB0-EF7C1269D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600" spc="-1" strike="noStrike">
                <a:solidFill>
                  <a:srgbClr val="ffffff"/>
                </a:solidFill>
                <a:latin typeface="Academy Engraved LET"/>
              </a:rPr>
              <a:t>Welchen Hasen soll ich nehmen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3200" spc="-1" strike="noStrike">
                <a:solidFill>
                  <a:srgbClr val="000000"/>
                </a:solidFill>
                <a:latin typeface="Bradley Hand ITC"/>
              </a:rPr>
              <a:t>Erfunden von A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3200" spc="-1" strike="noStrike">
                <a:solidFill>
                  <a:srgbClr val="000000"/>
                </a:solidFill>
                <a:latin typeface="comic"/>
              </a:rPr>
              <a:t>November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89440" y="2489040"/>
            <a:ext cx="1363680" cy="1879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40360" y="476280"/>
            <a:ext cx="3311280" cy="1905120"/>
          </a:xfrm>
          <a:prstGeom prst="cloudCallout">
            <a:avLst>
              <a:gd name="adj1" fmla="val -20037"/>
              <a:gd name="adj2" fmla="val 905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2400" spc="-1" strike="noStrike">
                <a:solidFill>
                  <a:srgbClr val="000000"/>
                </a:solidFill>
                <a:latin typeface="Blackadder ITC"/>
              </a:rPr>
              <a:t>Wer wird mich wohl mit nach Hause nehmen?</a:t>
            </a:r>
            <a:r>
              <a:rPr b="0" lang="de-LU" sz="2000" spc="-1" strike="noStrike">
                <a:solidFill>
                  <a:srgbClr val="000000"/>
                </a:solidFill>
                <a:latin typeface="Blackadder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843280" y="1341360"/>
            <a:ext cx="4249800" cy="4103640"/>
            <a:chOff x="2843280" y="1341360"/>
            <a:chExt cx="4249800" cy="4103640"/>
          </a:xfrm>
        </p:grpSpPr>
        <p:grpSp>
          <p:nvGrpSpPr>
            <p:cNvPr id="98" name=""/>
            <p:cNvGrpSpPr/>
            <p:nvPr/>
          </p:nvGrpSpPr>
          <p:grpSpPr>
            <a:xfrm>
              <a:off x="2843280" y="1341360"/>
              <a:ext cx="4249800" cy="4103640"/>
              <a:chOff x="2843280" y="1341360"/>
              <a:chExt cx="4249800" cy="4103640"/>
            </a:xfrm>
          </p:grpSpPr>
          <p:pic>
            <p:nvPicPr>
              <p:cNvPr id="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3280" y="3357360"/>
                <a:ext cx="2665440" cy="20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4140360" y="1341360"/>
                <a:ext cx="2952720" cy="1871640"/>
              </a:xfrm>
              <a:prstGeom prst="cloudCallout">
                <a:avLst>
                  <a:gd name="adj1" fmla="val -48064"/>
                  <a:gd name="adj2" fmla="val 10453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932360" y="1844640"/>
              <a:ext cx="144000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LU" sz="1700" spc="-1" strike="noStrike">
                  <a:solidFill>
                    <a:srgbClr val="000000"/>
                  </a:solidFill>
                  <a:latin typeface="Arial"/>
                </a:rPr>
                <a:t>Huch, es hat geklingelt! Kunden sind da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663 3.52601E-006 C 0.63506 -0.00347 0.63368 -0.0074 0.63177 -0.01064 C 0.63038 -0.01295 0.62829 -0.01434 0.62708 -0.01688 C 0.62621 -0.01873 0.62621 -0.02128 0.62552 -0.02336 C 0.62465 -0.02613 0.62361 -0.02914 0.62222 -0.03168 C 0.61979 -0.03607 0.61701 -0.04024 0.61441 -0.0444 C 0.60763 -0.05503 0.61215 -0.0474 0.60486 -0.05295 C 0.60156 -0.0555 0.59531 -0.06128 0.59531 -0.06128 C 0.58263 -0.06058 0.56996 -0.06035 0.55729 -0.0592 C 0.54774 -0.05827 0.53003 -0.03515 0.52395 -0.02544 C 0.52048 -0.01989 0.51458 -0.01318 0.50954 -0.01064 C 0.50538 -0.00856 0.49687 -0.00625 0.49687 -0.00625 C 0.49045 -0.00694 0.48402 -0.00648 0.47777 -0.00856 C 0.47256 -0.01041 0.46458 -0.02313 0.46041 -0.02752 C 0.4526 -0.04833 0.46319 -0.02313 0.45086 -0.04232 C 0.4493 -0.04463 0.44913 -0.0481 0.44774 -0.05064 C 0.44635 -0.05318 0.44444 -0.0548 0.44288 -0.05711 C 0.43402 -0.07076 0.43437 -0.07607 0.42066 -0.08255 C 0.40902 -0.08116 0.39739 -0.07954 0.38576 -0.07816 C 0.3835 -0.07792 0.37447 -0.06775 0.37152 -0.06544 C 0.35781 -0.05457 0.34618 -0.04255 0.33506 -0.02752 C 0.33211 -0.02336 0.33107 -0.01758 0.32864 -0.01272 C 0.32656 -0.00417 0.32309 -0.0007 0.31753 0.00416 C 0.31336 0.00277 0.30868 0.00254 0.30486 3.52601E-006 C 0.29739 -0.00509 0.29149 -0.01342 0.2842 -0.01896 C 0.27534 -0.03654 0.26927 -0.05226 0.25243 -0.05503 C 0.2467 -0.05596 0.24079 -0.05642 0.23506 -0.05711 C 0.20989 -0.05573 0.20034 -0.0659 0.18888 -0.0444 C 0.18541 -0.03029 0.18975 -0.04509 0.1842 -0.03376 C 0.18072 -0.02683 0.17934 -0.0185 0.17777 -0.01064 C 0.17725 -0.00787 0.17691 -0.00486 0.17621 -0.00209 C 0.17534 0.00231 0.17309 0.01063 0.17309 0.01063 C 0.16996 0.00994 0.16631 0.01063 0.16354 0.00855 C 0.15555 0.00231 0.15347 -0.00833 0.14618 -0.0148 C 0.13871 -0.02914 0.12986 -0.04278 0.12066 -0.05503 C 0.11909 -0.05711 0.11805 -0.06035 0.11597 -0.06128 C 0.11041 -0.06359 0.10555 -0.06752 0.1 -0.06983 C 0.09166 -0.07723 0.08281 -0.08139 0.07309 -0.08463 C 0.05798 -0.08324 0.04618 -0.08139 0.03177 -0.07816 C 0.0243 -0.07145 0.02569 -0.06451 0.02066 -0.05503 C 0.01909 -0.03977 0.01562 -0.02567 0.01284 -0.01064 C 0.0125 -0.00833 0.0125 -0.00555 0.01111 -0.00417 C 0.00642 0.00023 0.00416 3.52601E-006 3.88889E-006 3.52601E-006 E">
                                      <p:cBhvr>
                                        <p:cTn id="8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2105280" cy="4292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92360" y="692280"/>
            <a:ext cx="6048360" cy="194292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Ich will diesen Hasen streichel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347760"/>
            <a:ext cx="9144000" cy="720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8000" y="549360"/>
            <a:ext cx="19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333360"/>
            <a:ext cx="8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47840" y="20808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08000" y="0"/>
            <a:ext cx="2376720" cy="1413000"/>
          </a:xfrm>
          <a:prstGeom prst="wedgeEllipseCallout">
            <a:avLst>
              <a:gd name="adj1" fmla="val -32430"/>
              <a:gd name="adj2" fmla="val 1312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Diesen Hasen will ich mit nach Hause nehm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260280"/>
            <a:ext cx="13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2060640"/>
            <a:ext cx="1800360" cy="1485720"/>
          </a:xfrm>
          <a:prstGeom prst="wedgeEllipseCallout">
            <a:avLst>
              <a:gd name="adj1" fmla="val -74777"/>
              <a:gd name="adj2" fmla="val -770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Hier das Geld für den Has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0"/>
            <a:ext cx="2016360" cy="206064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Gute Wah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549360"/>
            <a:ext cx="7200720" cy="51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NDE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692 0.48185 C -0.51685 0.47815 -0.51876 0.47492 -0.51581 0.46266 C -0.51529 0.45711 -0.51494 0.45133 -0.51407 0.44578 C -0.5132 0.44 -0.51095 0.42867 -0.51095 0.42867 C -0.5099 0.38567 -0.50852 0.34266 -0.50782 0.29966 C -0.50695 0.25526 -0.50765 0.21087 -0.50626 0.16648 C -0.50522 0.13457 -0.49411 0.10243 -0.4856 0.07376 C -0.48317 0.05388 -0.47952 0.03677 -0.47292 0.01873 C -0.47119 0.00463 -0.46754 -0.00763 -0.46494 -0.02127 C -0.4639 -0.05919 -0.46164 -0.09433 -0.46025 -0.13156 C -0.46268 -0.17133 -0.46511 -0.22566 -0.47449 -0.26451 C -0.47883 -0.31098 -0.47709 -0.28693 -0.47917 -0.33641 C -0.47553 -0.35838 -0.47119 -0.3704 -0.46181 -0.38913 C -0.45886 -0.39491 -0.45313 -0.39722 -0.44914 -0.40185 C -0.4448 -0.4067 -0.44185 -0.41017 -0.43629 -0.41248 C -0.43074 -0.41734 -0.42518 -0.41803 -0.41893 -0.42081 C -0.40018 -0.41965 -0.35834 -0.41734 -0.33317 -0.41456 C -0.32848 -0.4141 -0.32362 -0.41318 -0.31893 -0.41248 C -0.30834 -0.4111 -0.28716 -0.40832 -0.28716 -0.40832 C -0.26737 -0.40046 -0.24567 -0.3963 -0.22518 -0.39352 C -0.19133 -0.38335 -0.15799 -0.37456 -0.12362 -0.36809 C -0.09011 -0.35352 -0.11181 -0.36138 -0.03629 -0.36809 C -0.01077 -0.3704 0.01631 -0.37641 0.04131 -0.38289 C 0.05433 -0.39144 0.06648 -0.39861 0.07951 -0.40601 C 0.09548 -0.41526 0.10971 -0.42682 0.12708 -0.43144 C 0.14565 -0.43098 0.23819 -0.4363 0.27152 -0.4252 C 0.2736 -0.42312 0.27551 -0.42034 0.27794 -0.41873 C 0.28697 -0.41271 0.28298 -0.42266 0.28593 -0.40832 C 0.28645 -0.37734 0.28662 -0.34612 0.28749 -0.31537 C 0.28767 -0.31029 0.28836 -0.3052 0.28905 -0.30058 C 0.28992 -0.2948 0.29218 -0.28347 0.29218 -0.28347 C 0.29322 -0.17063 0.29687 -0.06173 0.28905 0.05018 C 0.28905 0.05295 0.29721 0.15584 0.28419 0.17295 C 0.28958 0.20093 0.29062 0.19006 0.28749 0.20671 C 0.28645 0.22844 0.2861 0.25041 0.28419 0.27237 C 0.28367 0.27769 0.27829 0.28532 0.27638 0.28925 C 0.26805 0.30705 0.25867 0.32532 0.2493 0.3422 C 0.24166 0.35561 0.23298 0.3681 0.22395 0.38012 C 0.22152 0.38336 0.21753 0.38289 0.2144 0.38428 C 0.21284 0.38497 0.20971 0.38659 0.20971 0.38659 C 0.19253 0.38497 0.18228 0.38359 0.16683 0.38012 C 0.14339 0.36116 0.11492 0.35353 0.08905 0.3422 C 0.08385 0.33526 0.0776 0.32833 0.07152 0.32301 C 0.0651 0.31769 0.05607 0.31515 0.0493 0.31029 C 0.0269 0.29434 0.00537 0.27492 -0.01737 0.25966 C -0.02518 0.25457 -0.03334 0.25041 -0.04133 0.24509 C -0.05227 0.23746 -0.06702 0.23607 -0.07917 0.23214 C -0.08647 0.23006 -0.1014 0.2259 -0.1014 0.2259 C -0.14515 0.197 -0.20556 0.20278 -0.2507 0.2007 C -0.25834 0.197 -0.25574 0.19214 -0.26025 0.18359 C -0.26077 0.17781 -0.26095 0.17203 -0.26181 0.16648 C -0.26251 0.16278 -0.26442 0.15977 -0.26494 0.1563 C -0.26772 0.13549 -0.27049 0.07792 -0.27136 0.06289 C -0.27084 0.02081 -0.27049 -0.02127 -0.26963 -0.06358 C -0.26893 -0.09549 -0.2698 -0.13017 -0.26494 -0.16115 C -0.26077 -0.18751 -0.26008 -0.17711 -0.25383 -0.20323 C -0.2474 -0.23006 -0.24185 -0.25179 -0.22848 -0.27306 C -0.21963 -0.28693 -0.21789 -0.29664 -0.20626 -0.30497 C -0.18681 -0.30335 -0.1731 -0.30219 -0.15539 -0.29641 C -0.13161 -0.28023 -0.10539 -0.26867 -0.08074 -0.25387 C -0.06129 -0.24254 -0.04341 -0.23029 -0.02206 -0.22636 C -0.00695 -0.21641 0.00728 -0.2141 0.02395 -0.21156 C 0.04218 -0.20485 0.06076 -0.203 0.07951 -0.20115 C 0.09218 -0.20185 0.10485 -0.20208 0.11753 -0.20323 C 0.1236 -0.20416 0.12951 -0.20878 0.13506 -0.21156 C 0.14583 -0.21688 0.15711 -0.22173 0.16839 -0.22427 C 0.17708 -0.22982 0.18593 -0.23237 0.1953 -0.23491 C 0.20485 -0.21641 0.19982 -0.18335 0.20329 -0.16115 C 0.20815 -0.12925 0.21492 -0.09734 0.22083 -0.06589 C 0.22551 -0.04092 0.22916 -0.01549 0.23662 0.00833 C 0.2394 0.05388 0.24148 0.10359 0.23037 0.14752 C 0.23003 0.15052 0.22881 0.16763 0.22708 0.17295 C 0.22169 0.19006 0.20364 0.19122 0.19218 0.19607 C 0.16492 0.19445 0.14235 0.1889 0.11579 0.18359 C 0.09721 0.17133 0.11648 0.18197 0.09374 0.17503 C 0.07586 0.16971 0.06336 0.16486 0.04461 0.16231 C 0.02933 0.15746 0.01423 0.1526 -0.0014 0.1496 C -0.03577 0.13457 -0.07084 0.13573 -0.10626 0.12648 C -0.10782 0.12532 -0.10921 0.12324 -0.11095 0.12231 C -0.11251 0.12116 -0.11459 0.12162 -0.11581 0.12023 C -0.11702 0.11862 -0.1165 0.11584 -0.11737 0.11376 C -0.11858 0.11099 -0.12015 0.10775 -0.12206 0.1052 C -0.13039 0.09411 -0.14046 0.0844 -0.14914 0.07376 C -0.15608 0.03584 -0.15261 -0.00323 -0.14584 -0.04069 C -0.14532 -0.05549 -0.14549 -0.07029 -0.14428 -0.08508 C -0.14289 -0.10058 -0.12917 -0.12647 -0.12206 -0.13965 C -0.11442 -0.15468 -0.1198 -0.15098 -0.11095 -0.15468 C -0.1099 -0.15607 -0.10852 -0.15699 -0.10782 -0.15884 C -0.10695 -0.16092 -0.10746 -0.1637 -0.10626 -0.16508 C -0.104 -0.1674 -0.10088 -0.16809 -0.09827 -0.16925 C -0.07709 -0.16786 -0.079 -0.16925 -0.06494 -0.16508 C -0.05452 -0.16208 -0.04515 -0.15584 -0.03473 -0.1526 C -0.0231 -0.14474 -0.00782 -0.14289 0.00485 -0.13965 C 0.05798 -0.12647 0.10885 -0.1267 0.16371 -0.12508 C 0.171 -0.05572 0.16353 0.01364 0.17482 0.08231 C 0.17291 0.12023 0.1776 0.11099 0.16197 0.12648 C 0.14687 0.12393 0.13228 0.12185 0.11753 0.11792 C 0.09739 0.10474 0.06544 0.10197 0.04305 0.09919 C 0.03037 0.09179 0.01978 0.08971 0.00642 0.08648 C -0.00331 0.08393 -0.01233 0.08 -0.02206 0.07792 C -0.03282 0.06937 -0.04497 0.06497 -0.05695 0.06081 C -0.06355 0.05549 -0.08265 0.04601 -0.09029 0.04416 C -0.09341 0.04116 -0.09636 0.03792 -0.09983 0.03561 C -0.10174 0.03422 -0.10626 0.03653 -0.10626 0.03353 C -0.10626 0.02914 -0.10244 0.02613 -0.09983 0.02289 C -0.09428 0.01665 -0.08542 0.01364 -0.07917 0.00833 C -0.07536 0.00509 -0.07188 0.00093 -0.06806 -0.00231 C -0.06303 -0.01133 -0.04914 -0.02682 -0.04133 -0.03422 C -0.0389 -0.04347 -0.03525 -0.04485 -0.03004 -0.0511 C -0.01268 -0.07167 -0.02692 -0.0578 -0.01581 -0.06821 C -0.00227 -0.09387 0.04044 -0.07699 0.0526 -0.07653 C 0.06718 -0.06867 0.09409 -0.06659 0.10971 -0.06358 C 0.12135 -0.05849 0.12673 -0.0541 0.1335 -0.04069 C 0.13576 -0.02543 0.13089 -0.01156 0.12864 0.00393 C 0.12812 0.02151 0.1361 0.06151 0.11753 0.06937 C 0.08749 0.06682 0.05867 0.05549 0.02864 0.05018 C 0.01822 0.04578 0.00746 0.04578 -0.00296 0.04208 C -0.01338 0.03838 -0.02275 0.03099 -0.03161 0.02289 C -0.02622 0.01549 -0.02987 0.01942 -0.01893 0.01457 C -0.01737 0.01388 -0.01407 0.01249 -0.01407 0.01249 C -0.01251 0.0111 -0.01077 0.00994 -0.00938 0.00833 C -0.00765 0.00648 -0.00661 0.00347 -0.0047 0.00185 C -0.00331 0.0007 -5.27778E-006 -0.00023 -5.27778E-006 -0.00023 E">
                                      <p:cBhvr>
                                        <p:cTn id="15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53:10Z</dcterms:created>
  <dc:creator>Adm. Niederanven</dc:creator>
  <dc:description/>
  <dc:language>en-US</dc:language>
  <cp:lastModifiedBy>Adm. Niederanven</cp:lastModifiedBy>
  <dcterms:modified xsi:type="dcterms:W3CDTF">2006-12-21T16:21:06Z</dcterms:modified>
  <cp:revision>9</cp:revision>
  <dc:subject/>
  <dc:title>Welchen Hasen soll ich nehmen?</dc:title>
</cp:coreProperties>
</file>