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explode.wav" ContentType="audio/x-wav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4A8-BF9E-4ABF-8FFC-B7C8D33D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352-D3A2-4B37-B062-C8A62CB7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F2C3-A21D-46A6-82D4-010A63D1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680-BF57-4641-8236-1589B64B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60A5-0405-4611-B7CE-BAC8BA8C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613-DE88-41BA-9D00-101E585B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B3E-9F46-494C-B158-9CFD4E48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DF6E-C8C0-4FD0-AF63-7D9CDAC3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910-5CCC-4CE1-BD0B-E443A2BE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250-059F-4F59-877E-FD6D9EC9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0ECC-AB30-4294-8672-BEE36D04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0CC4-044B-4A93-B4DD-FB5A366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8EE0-7007-4EF9-BFD2-FFCE5EE21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133720"/>
            <a:ext cx="5832360" cy="100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omic"/>
              </a:rPr>
              <a:t>Y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000000"/>
                </a:solidFill>
                <a:latin typeface="Blackadder ITC"/>
              </a:rPr>
              <a:t>Von 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1871640" cy="172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16720" y="33336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172872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835280" y="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415280" y="2276640"/>
            <a:ext cx="172872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01000" y="4724280"/>
            <a:ext cx="1143000" cy="159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846760" y="2349360"/>
            <a:ext cx="1390680" cy="201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627280" y="2349360"/>
            <a:ext cx="1366920" cy="178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476360" y="2421000"/>
            <a:ext cx="1143000" cy="159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516720" y="465300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003640" y="4508640"/>
            <a:ext cx="1440000" cy="187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3492360" y="4437000"/>
            <a:ext cx="144000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979640" y="436572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250920" y="4292640"/>
            <a:ext cx="1631880" cy="219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250920" y="0"/>
            <a:ext cx="1224000" cy="160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250920" y="2276640"/>
            <a:ext cx="1143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134120" cy="535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6720" y="7101000"/>
            <a:ext cx="73080" cy="71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7029360"/>
            <a:ext cx="144360" cy="1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76280"/>
            <a:ext cx="2448000" cy="1224000"/>
          </a:xfrm>
          <a:prstGeom prst="wedgeRoundRectCallout">
            <a:avLst>
              <a:gd name="adj1" fmla="val 84759"/>
              <a:gd name="adj2" fmla="val 102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ch komme sc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597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03640" y="3933720"/>
            <a:ext cx="3384720" cy="1987560"/>
          </a:xfrm>
          <a:prstGeom prst="wedgeRoundRectCallout">
            <a:avLst>
              <a:gd name="adj1" fmla="val -57037"/>
              <a:gd name="adj2" fmla="val -101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Ab zu General Grievo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5797440" y="-132408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789360" cy="381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2492280"/>
            <a:ext cx="2089080" cy="1513080"/>
          </a:xfrm>
          <a:prstGeom prst="wedgeRoundRectCallout">
            <a:avLst>
              <a:gd name="adj1" fmla="val 77888"/>
              <a:gd name="adj2" fmla="val 344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Ach Yo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Wie lange haben wir uns nicht mehr gese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225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25960" y="1600200"/>
            <a:ext cx="269208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64000" y="2205000"/>
            <a:ext cx="2305080" cy="792360"/>
          </a:xfrm>
          <a:prstGeom prst="wedgeRoundRectCallout">
            <a:avLst>
              <a:gd name="adj1" fmla="val -50208"/>
              <a:gd name="adj2" fmla="val 91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ch fordere dich her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41400" y="1916280"/>
            <a:ext cx="5461200" cy="352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1844640"/>
            <a:ext cx="1800000" cy="1224000"/>
          </a:xfrm>
          <a:prstGeom prst="wedgeRoundRectCallout">
            <a:avLst>
              <a:gd name="adj1" fmla="val -48587"/>
              <a:gd name="adj2" fmla="val 69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Du bist t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85680"/>
            <a:ext cx="8424720" cy="651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92720" y="4508640"/>
            <a:ext cx="1800360" cy="504720"/>
          </a:xfrm>
          <a:prstGeom prst="wedgeRoundRectCallout">
            <a:avLst>
              <a:gd name="adj1" fmla="val -37476"/>
              <a:gd name="adj2" fmla="val -461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m Gegente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41036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600" spc="-1" strike="noStrike">
                <a:solidFill>
                  <a:srgbClr val="000000"/>
                </a:solidFill>
                <a:latin typeface="Arial"/>
              </a:rPr>
              <a:t>Yoda hat gewo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4038480" cy="568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907560"/>
            <a:ext cx="4038480" cy="2878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771640" y="765000"/>
            <a:ext cx="4896000" cy="561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2000" y="2133720"/>
            <a:ext cx="1727280" cy="503280"/>
          </a:xfrm>
          <a:prstGeom prst="wedgeRoundRectCallout">
            <a:avLst>
              <a:gd name="adj1" fmla="val 65439"/>
              <a:gd name="adj2" fmla="val 2758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Gesieg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71640" y="3213000"/>
            <a:ext cx="3395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5:02:59Z</dcterms:created>
  <dc:creator>Adm. Niederanven</dc:creator>
  <dc:description/>
  <dc:language>en-US</dc:language>
  <cp:lastModifiedBy>Adm. Niederanven</cp:lastModifiedBy>
  <dcterms:modified xsi:type="dcterms:W3CDTF">2006-12-12T15:31:04Z</dcterms:modified>
  <cp:revision>16</cp:revision>
  <dc:subject/>
  <dc:title>Yoda</dc:title>
</cp:coreProperties>
</file>